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47F7-E39E-4778-A6A2-B660F4ED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1552-602C-49BB-B7EC-0E666FEA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A92-AB89-42B6-9B27-05276AFD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33E2-1D02-4626-ADC0-E9F47FA3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9A00-A89E-4F4C-B3F3-F3698BAD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B403-FED8-4F98-95D0-A92DFD55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841C-7477-4722-A144-393A57A6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36FB-BC2E-4DED-BBA3-6DF001B6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B7B4-58B1-4D16-8860-BF02A429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B40-0977-4DE5-B0DA-C1CB691C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10F-6E0F-459C-97E1-6F03D44F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8C37-81CD-4030-8B5A-DE3A2B56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73AD-1DF9-40BF-B27F-14CE97E0FD8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7925040" cy="5638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asing Depth of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reasing Depth of 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80B1-B3FE-4D34-B2F9-5E0B006774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diffracting B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3962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Huygens-Fresnel principle, commonly used solutions to the homogeneous wave equation produce diffraction eff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2057400"/>
            <a:ext cx="30456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221940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238140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25430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27050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28670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30290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1910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560" y="1904400"/>
            <a:ext cx="456480" cy="609480"/>
            <a:chOff x="3886560" y="1904400"/>
            <a:chExt cx="456480" cy="609480"/>
          </a:xfrm>
        </p:grpSpPr>
        <p:grpSp>
          <p:nvGrpSpPr>
            <p:cNvPr id="120" name=""/>
            <p:cNvGrpSpPr/>
            <p:nvPr/>
          </p:nvGrpSpPr>
          <p:grpSpPr>
            <a:xfrm>
              <a:off x="3886560" y="1904400"/>
              <a:ext cx="456480" cy="609480"/>
              <a:chOff x="3886560" y="1904400"/>
              <a:chExt cx="456480" cy="609480"/>
            </a:xfrm>
          </p:grpSpPr>
          <p:sp>
            <p:nvSpPr>
              <p:cNvPr id="121" name=""/>
              <p:cNvSpPr/>
              <p:nvPr/>
            </p:nvSpPr>
            <p:spPr>
              <a:xfrm>
                <a:off x="3886560" y="1905120"/>
                <a:ext cx="45648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3886560" y="1904040"/>
                <a:ext cx="45648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999240" y="2056680"/>
              <a:ext cx="231120" cy="310680"/>
              <a:chOff x="3999240" y="2056680"/>
              <a:chExt cx="231120" cy="310680"/>
            </a:xfrm>
          </p:grpSpPr>
          <p:sp>
            <p:nvSpPr>
              <p:cNvPr id="124" name=""/>
              <p:cNvSpPr/>
              <p:nvPr/>
            </p:nvSpPr>
            <p:spPr>
              <a:xfrm>
                <a:off x="3999240" y="2057400"/>
                <a:ext cx="231120" cy="30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3999240" y="2056320"/>
                <a:ext cx="231120" cy="310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" name=""/>
          <p:cNvGrpSpPr/>
          <p:nvPr/>
        </p:nvGrpSpPr>
        <p:grpSpPr>
          <a:xfrm>
            <a:off x="3886560" y="2056680"/>
            <a:ext cx="456480" cy="609480"/>
            <a:chOff x="3886560" y="2056680"/>
            <a:chExt cx="456480" cy="609480"/>
          </a:xfrm>
        </p:grpSpPr>
        <p:grpSp>
          <p:nvGrpSpPr>
            <p:cNvPr id="127" name=""/>
            <p:cNvGrpSpPr/>
            <p:nvPr/>
          </p:nvGrpSpPr>
          <p:grpSpPr>
            <a:xfrm>
              <a:off x="3886560" y="2056680"/>
              <a:ext cx="456480" cy="609480"/>
              <a:chOff x="3886560" y="2056680"/>
              <a:chExt cx="456480" cy="609480"/>
            </a:xfrm>
          </p:grpSpPr>
          <p:sp>
            <p:nvSpPr>
              <p:cNvPr id="128" name=""/>
              <p:cNvSpPr/>
              <p:nvPr/>
            </p:nvSpPr>
            <p:spPr>
              <a:xfrm>
                <a:off x="3886560" y="2057400"/>
                <a:ext cx="45648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3886560" y="2056320"/>
                <a:ext cx="45648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3999240" y="2208960"/>
              <a:ext cx="231120" cy="310680"/>
              <a:chOff x="3999240" y="2208960"/>
              <a:chExt cx="231120" cy="310680"/>
            </a:xfrm>
          </p:grpSpPr>
          <p:sp>
            <p:nvSpPr>
              <p:cNvPr id="131" name=""/>
              <p:cNvSpPr/>
              <p:nvPr/>
            </p:nvSpPr>
            <p:spPr>
              <a:xfrm>
                <a:off x="3999240" y="2209680"/>
                <a:ext cx="231120" cy="30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3999240" y="2208600"/>
                <a:ext cx="231120" cy="310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" name=""/>
          <p:cNvGrpSpPr/>
          <p:nvPr/>
        </p:nvGrpSpPr>
        <p:grpSpPr>
          <a:xfrm>
            <a:off x="3886560" y="2208960"/>
            <a:ext cx="456480" cy="609480"/>
            <a:chOff x="3886560" y="2208960"/>
            <a:chExt cx="456480" cy="609480"/>
          </a:xfrm>
        </p:grpSpPr>
        <p:grpSp>
          <p:nvGrpSpPr>
            <p:cNvPr id="134" name=""/>
            <p:cNvGrpSpPr/>
            <p:nvPr/>
          </p:nvGrpSpPr>
          <p:grpSpPr>
            <a:xfrm>
              <a:off x="3886560" y="2208960"/>
              <a:ext cx="456480" cy="609480"/>
              <a:chOff x="3886560" y="2208960"/>
              <a:chExt cx="456480" cy="609480"/>
            </a:xfrm>
          </p:grpSpPr>
          <p:sp>
            <p:nvSpPr>
              <p:cNvPr id="135" name=""/>
              <p:cNvSpPr/>
              <p:nvPr/>
            </p:nvSpPr>
            <p:spPr>
              <a:xfrm>
                <a:off x="3886560" y="2209680"/>
                <a:ext cx="45648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3886560" y="2208600"/>
                <a:ext cx="45648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999240" y="2361240"/>
              <a:ext cx="231120" cy="310680"/>
              <a:chOff x="3999240" y="2361240"/>
              <a:chExt cx="231120" cy="310680"/>
            </a:xfrm>
          </p:grpSpPr>
          <p:sp>
            <p:nvSpPr>
              <p:cNvPr id="138" name=""/>
              <p:cNvSpPr/>
              <p:nvPr/>
            </p:nvSpPr>
            <p:spPr>
              <a:xfrm>
                <a:off x="3999240" y="2361960"/>
                <a:ext cx="231120" cy="30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3999240" y="2360880"/>
                <a:ext cx="231120" cy="310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3886560" y="2361600"/>
            <a:ext cx="456480" cy="609480"/>
            <a:chOff x="3886560" y="2361600"/>
            <a:chExt cx="456480" cy="609480"/>
          </a:xfrm>
        </p:grpSpPr>
        <p:grpSp>
          <p:nvGrpSpPr>
            <p:cNvPr id="141" name=""/>
            <p:cNvGrpSpPr/>
            <p:nvPr/>
          </p:nvGrpSpPr>
          <p:grpSpPr>
            <a:xfrm>
              <a:off x="3886560" y="2361600"/>
              <a:ext cx="456480" cy="609480"/>
              <a:chOff x="3886560" y="2361600"/>
              <a:chExt cx="456480" cy="609480"/>
            </a:xfrm>
          </p:grpSpPr>
          <p:sp>
            <p:nvSpPr>
              <p:cNvPr id="142" name=""/>
              <p:cNvSpPr/>
              <p:nvPr/>
            </p:nvSpPr>
            <p:spPr>
              <a:xfrm>
                <a:off x="3886560" y="2362320"/>
                <a:ext cx="45648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3886560" y="2361240"/>
                <a:ext cx="45648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999240" y="2513880"/>
              <a:ext cx="231120" cy="310680"/>
              <a:chOff x="3999240" y="2513880"/>
              <a:chExt cx="231120" cy="310680"/>
            </a:xfrm>
          </p:grpSpPr>
          <p:sp>
            <p:nvSpPr>
              <p:cNvPr id="145" name=""/>
              <p:cNvSpPr/>
              <p:nvPr/>
            </p:nvSpPr>
            <p:spPr>
              <a:xfrm>
                <a:off x="3999240" y="2514600"/>
                <a:ext cx="231120" cy="30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3999240" y="2513520"/>
                <a:ext cx="231120" cy="310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3886560" y="2513880"/>
            <a:ext cx="456480" cy="609480"/>
            <a:chOff x="3886560" y="2513880"/>
            <a:chExt cx="456480" cy="609480"/>
          </a:xfrm>
        </p:grpSpPr>
        <p:grpSp>
          <p:nvGrpSpPr>
            <p:cNvPr id="148" name=""/>
            <p:cNvGrpSpPr/>
            <p:nvPr/>
          </p:nvGrpSpPr>
          <p:grpSpPr>
            <a:xfrm>
              <a:off x="3886560" y="2513880"/>
              <a:ext cx="456480" cy="609480"/>
              <a:chOff x="3886560" y="2513880"/>
              <a:chExt cx="456480" cy="609480"/>
            </a:xfrm>
          </p:grpSpPr>
          <p:sp>
            <p:nvSpPr>
              <p:cNvPr id="149" name=""/>
              <p:cNvSpPr/>
              <p:nvPr/>
            </p:nvSpPr>
            <p:spPr>
              <a:xfrm>
                <a:off x="3886560" y="2514600"/>
                <a:ext cx="45648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3886560" y="2513520"/>
                <a:ext cx="45648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3999240" y="2666160"/>
              <a:ext cx="231120" cy="310680"/>
              <a:chOff x="3999240" y="2666160"/>
              <a:chExt cx="231120" cy="310680"/>
            </a:xfrm>
          </p:grpSpPr>
          <p:sp>
            <p:nvSpPr>
              <p:cNvPr id="152" name=""/>
              <p:cNvSpPr/>
              <p:nvPr/>
            </p:nvSpPr>
            <p:spPr>
              <a:xfrm>
                <a:off x="3999240" y="2666880"/>
                <a:ext cx="231120" cy="30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3999240" y="2665800"/>
                <a:ext cx="231120" cy="310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3886560" y="2666160"/>
            <a:ext cx="456480" cy="609480"/>
            <a:chOff x="3886560" y="2666160"/>
            <a:chExt cx="456480" cy="609480"/>
          </a:xfrm>
        </p:grpSpPr>
        <p:grpSp>
          <p:nvGrpSpPr>
            <p:cNvPr id="155" name=""/>
            <p:cNvGrpSpPr/>
            <p:nvPr/>
          </p:nvGrpSpPr>
          <p:grpSpPr>
            <a:xfrm>
              <a:off x="3886560" y="2666160"/>
              <a:ext cx="456480" cy="609480"/>
              <a:chOff x="3886560" y="2666160"/>
              <a:chExt cx="456480" cy="609480"/>
            </a:xfrm>
          </p:grpSpPr>
          <p:sp>
            <p:nvSpPr>
              <p:cNvPr id="156" name=""/>
              <p:cNvSpPr/>
              <p:nvPr/>
            </p:nvSpPr>
            <p:spPr>
              <a:xfrm>
                <a:off x="3886560" y="2666880"/>
                <a:ext cx="45648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3886560" y="2665800"/>
                <a:ext cx="45648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999240" y="2818440"/>
              <a:ext cx="231120" cy="310680"/>
              <a:chOff x="3999240" y="2818440"/>
              <a:chExt cx="231120" cy="310680"/>
            </a:xfrm>
          </p:grpSpPr>
          <p:sp>
            <p:nvSpPr>
              <p:cNvPr id="159" name=""/>
              <p:cNvSpPr/>
              <p:nvPr/>
            </p:nvSpPr>
            <p:spPr>
              <a:xfrm>
                <a:off x="3999240" y="2819160"/>
                <a:ext cx="231120" cy="30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3999240" y="2818080"/>
                <a:ext cx="231120" cy="310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3886560" y="2818800"/>
            <a:ext cx="456480" cy="609480"/>
            <a:chOff x="3886560" y="2818800"/>
            <a:chExt cx="456480" cy="609480"/>
          </a:xfrm>
        </p:grpSpPr>
        <p:grpSp>
          <p:nvGrpSpPr>
            <p:cNvPr id="162" name=""/>
            <p:cNvGrpSpPr/>
            <p:nvPr/>
          </p:nvGrpSpPr>
          <p:grpSpPr>
            <a:xfrm>
              <a:off x="3886560" y="2818800"/>
              <a:ext cx="456480" cy="609480"/>
              <a:chOff x="3886560" y="2818800"/>
              <a:chExt cx="456480" cy="609480"/>
            </a:xfrm>
          </p:grpSpPr>
          <p:sp>
            <p:nvSpPr>
              <p:cNvPr id="163" name=""/>
              <p:cNvSpPr/>
              <p:nvPr/>
            </p:nvSpPr>
            <p:spPr>
              <a:xfrm>
                <a:off x="3886560" y="2819520"/>
                <a:ext cx="45648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3886560" y="2818440"/>
                <a:ext cx="45648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3999240" y="2971080"/>
              <a:ext cx="231120" cy="310680"/>
              <a:chOff x="3999240" y="2971080"/>
              <a:chExt cx="231120" cy="310680"/>
            </a:xfrm>
          </p:grpSpPr>
          <p:sp>
            <p:nvSpPr>
              <p:cNvPr id="166" name=""/>
              <p:cNvSpPr/>
              <p:nvPr/>
            </p:nvSpPr>
            <p:spPr>
              <a:xfrm>
                <a:off x="3999240" y="2971800"/>
                <a:ext cx="231120" cy="30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999240" y="2970720"/>
                <a:ext cx="231120" cy="310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3886560" y="2971080"/>
            <a:ext cx="456480" cy="609480"/>
            <a:chOff x="3886560" y="2971080"/>
            <a:chExt cx="456480" cy="609480"/>
          </a:xfrm>
        </p:grpSpPr>
        <p:grpSp>
          <p:nvGrpSpPr>
            <p:cNvPr id="169" name=""/>
            <p:cNvGrpSpPr/>
            <p:nvPr/>
          </p:nvGrpSpPr>
          <p:grpSpPr>
            <a:xfrm>
              <a:off x="3886560" y="2971080"/>
              <a:ext cx="456480" cy="609480"/>
              <a:chOff x="3886560" y="2971080"/>
              <a:chExt cx="456480" cy="609480"/>
            </a:xfrm>
          </p:grpSpPr>
          <p:sp>
            <p:nvSpPr>
              <p:cNvPr id="170" name=""/>
              <p:cNvSpPr/>
              <p:nvPr/>
            </p:nvSpPr>
            <p:spPr>
              <a:xfrm>
                <a:off x="3886560" y="2971800"/>
                <a:ext cx="45648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3886560" y="2970720"/>
                <a:ext cx="45648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999240" y="3123360"/>
              <a:ext cx="231120" cy="310680"/>
              <a:chOff x="3999240" y="3123360"/>
              <a:chExt cx="231120" cy="310680"/>
            </a:xfrm>
          </p:grpSpPr>
          <p:sp>
            <p:nvSpPr>
              <p:cNvPr id="173" name=""/>
              <p:cNvSpPr/>
              <p:nvPr/>
            </p:nvSpPr>
            <p:spPr>
              <a:xfrm>
                <a:off x="3999240" y="3124080"/>
                <a:ext cx="231120" cy="30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3999240" y="3123000"/>
                <a:ext cx="231120" cy="310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" name=""/>
          <p:cNvGrpSpPr/>
          <p:nvPr/>
        </p:nvGrpSpPr>
        <p:grpSpPr>
          <a:xfrm>
            <a:off x="3886560" y="3123360"/>
            <a:ext cx="456480" cy="609480"/>
            <a:chOff x="3886560" y="3123360"/>
            <a:chExt cx="456480" cy="609480"/>
          </a:xfrm>
        </p:grpSpPr>
        <p:grpSp>
          <p:nvGrpSpPr>
            <p:cNvPr id="176" name=""/>
            <p:cNvGrpSpPr/>
            <p:nvPr/>
          </p:nvGrpSpPr>
          <p:grpSpPr>
            <a:xfrm>
              <a:off x="3886560" y="3123360"/>
              <a:ext cx="456480" cy="609480"/>
              <a:chOff x="3886560" y="3123360"/>
              <a:chExt cx="456480" cy="609480"/>
            </a:xfrm>
          </p:grpSpPr>
          <p:sp>
            <p:nvSpPr>
              <p:cNvPr id="177" name=""/>
              <p:cNvSpPr/>
              <p:nvPr/>
            </p:nvSpPr>
            <p:spPr>
              <a:xfrm>
                <a:off x="3886560" y="3124080"/>
                <a:ext cx="45648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3886560" y="3123000"/>
                <a:ext cx="45648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999240" y="3275640"/>
              <a:ext cx="231120" cy="310680"/>
              <a:chOff x="3999240" y="3275640"/>
              <a:chExt cx="231120" cy="310680"/>
            </a:xfrm>
          </p:grpSpPr>
          <p:sp>
            <p:nvSpPr>
              <p:cNvPr id="180" name=""/>
              <p:cNvSpPr/>
              <p:nvPr/>
            </p:nvSpPr>
            <p:spPr>
              <a:xfrm>
                <a:off x="3999240" y="3276360"/>
                <a:ext cx="231120" cy="30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3999240" y="3275280"/>
                <a:ext cx="231120" cy="310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724280" y="2362320"/>
                <a:ext cx="2895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φ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reasing Depth of 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1862-DA60-465D-92D1-C3ACAF082E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diffracting B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 solutions can be used such that wave field is not a function of range, i.e., it is diffraction f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ly used solutions incl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sel beam (first kind, zero-th order) and X be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exists a tradeoff between depth of field, aperture size and mainlobe width. Sidelobes are relatively hi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reasing Depth of 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B5D3-A5CE-4519-B9EC-83FC744C4E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rospective Transmit Focu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3809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wo-way beam pattern is the Fourier transform of the two-way aperture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733920" y="2209680"/>
            <a:ext cx="1676160" cy="457200"/>
            <a:chOff x="3733920" y="2209680"/>
            <a:chExt cx="1676160" cy="457200"/>
          </a:xfrm>
        </p:grpSpPr>
        <p:sp>
          <p:nvSpPr>
            <p:cNvPr id="188" name=""/>
            <p:cNvSpPr/>
            <p:nvPr/>
          </p:nvSpPr>
          <p:spPr>
            <a:xfrm>
              <a:off x="3733920" y="2666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733920" y="220968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2000" y="2209680"/>
              <a:ext cx="837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990720" y="2438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2438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2362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26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2514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412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05720" y="2590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010280" y="2057400"/>
            <a:ext cx="304560" cy="1066680"/>
            <a:chOff x="7010280" y="2057400"/>
            <a:chExt cx="304560" cy="1066680"/>
          </a:xfrm>
        </p:grpSpPr>
        <p:sp>
          <p:nvSpPr>
            <p:cNvPr id="199" name=""/>
            <p:cNvSpPr/>
            <p:nvPr/>
          </p:nvSpPr>
          <p:spPr>
            <a:xfrm>
              <a:off x="7011000" y="2057400"/>
              <a:ext cx="30384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7010280" y="2057400"/>
              <a:ext cx="30456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7315200" y="2362320"/>
            <a:ext cx="228240" cy="456840"/>
            <a:chOff x="7315200" y="2362320"/>
            <a:chExt cx="228240" cy="456840"/>
          </a:xfrm>
        </p:grpSpPr>
        <p:sp>
          <p:nvSpPr>
            <p:cNvPr id="202" name=""/>
            <p:cNvSpPr/>
            <p:nvPr/>
          </p:nvSpPr>
          <p:spPr>
            <a:xfrm>
              <a:off x="7315920" y="2362320"/>
              <a:ext cx="227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7315200" y="2362320"/>
              <a:ext cx="2282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781680" y="2362320"/>
            <a:ext cx="228240" cy="456840"/>
            <a:chOff x="6781680" y="2362320"/>
            <a:chExt cx="228240" cy="456840"/>
          </a:xfrm>
        </p:grpSpPr>
        <p:sp>
          <p:nvSpPr>
            <p:cNvPr id="205" name=""/>
            <p:cNvSpPr/>
            <p:nvPr/>
          </p:nvSpPr>
          <p:spPr>
            <a:xfrm>
              <a:off x="6782400" y="2362320"/>
              <a:ext cx="227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781680" y="2362320"/>
              <a:ext cx="2282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990720" y="2058120"/>
            <a:ext cx="837720" cy="608760"/>
            <a:chOff x="990720" y="2058120"/>
            <a:chExt cx="837720" cy="608760"/>
          </a:xfrm>
        </p:grpSpPr>
        <p:sp>
          <p:nvSpPr>
            <p:cNvPr id="208" name=""/>
            <p:cNvSpPr/>
            <p:nvPr/>
          </p:nvSpPr>
          <p:spPr>
            <a:xfrm flipV="1">
              <a:off x="991080" y="2057760"/>
              <a:ext cx="83736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990720" y="2057760"/>
              <a:ext cx="83736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reasing Depth of 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B726-47C0-4E29-A51F-854F9CEC3B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rospective Transmit Focu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ffective transmit aperture is the product of the transmit apodization and the defocusing phase ter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move the phase errors on transmit, we can apply a pre-detection filter after the beam 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reasing Depth of 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CA3C-0034-45BF-B8C7-DF5FE29672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rospective Transmit Focu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actice, this can be implemented as a set of range dependent pre-detection fil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371600" y="1676520"/>
            <a:ext cx="6324480" cy="2120760"/>
            <a:chOff x="1371600" y="1676520"/>
            <a:chExt cx="6324480" cy="2120760"/>
          </a:xfrm>
        </p:grpSpPr>
        <p:sp>
          <p:nvSpPr>
            <p:cNvPr id="215" name=""/>
            <p:cNvSpPr/>
            <p:nvPr/>
          </p:nvSpPr>
          <p:spPr>
            <a:xfrm>
              <a:off x="2438280" y="2362320"/>
              <a:ext cx="1524240" cy="1371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38280" y="1828800"/>
              <a:ext cx="1524240" cy="30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00400" y="2133720"/>
              <a:ext cx="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0" y="2362320"/>
              <a:ext cx="10666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2604960"/>
              <a:ext cx="1066680" cy="152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72000" y="2849400"/>
              <a:ext cx="1066680" cy="152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0" y="3092400"/>
              <a:ext cx="10666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0" y="3336840"/>
              <a:ext cx="1066680" cy="152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72000" y="3581280"/>
              <a:ext cx="1066680" cy="152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62520" y="24382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62520" y="26812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62520" y="29257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62520" y="31687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62520" y="34131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62520" y="36576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38680" y="24084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38680" y="265104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38680" y="28954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38680" y="31384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38680" y="33829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38680" y="362736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48520" y="2286000"/>
              <a:ext cx="1447560" cy="1447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47920" y="18288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71600" y="28195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29400" y="16765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91120" y="17524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ter b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09680" y="22860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09680" y="2286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47920" y="34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n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reasing Depth of 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FD8B-AE42-464C-97EA-7B5465FDED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asing Pene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reasing Penet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DE8A-D954-47E4-92B9-CD89E1FADC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d Exci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FDA guidelines, both pulse average (SPPA) and temporal average (SPTA) are regul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PA limit is 190W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PTA limit is 720mW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typical conditions, only one of the limits is rea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reasing Penet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C90C-7BE5-450A-BF7C-451E597F43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d Exci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al of coded excitation is to increase transmit power without exceeding the regulations and without degrading range re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reate long pulses without degrading range resolution, bandwidth of the transmitted pulse must be mainta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reasing Penet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3AD4-C601-4E0C-96E1-4953C18346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d Exci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2120" y="3428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onstant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center frequency, 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s the bandwidth and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chosen such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s the pulse duration is equal to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514600" y="2209680"/>
                <a:ext cx="434340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Df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reasing Penet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7930-ED2A-4309-BDF7-E878CF5BD0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d Exci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xial resolution can be improved by compressing the received pulse. This is done either by correlating received signals with a reference signal or by convolving with a fil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lter can be inverse or mat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reasing Penet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435C-DAB6-4CBA-959D-FC6EA96289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th of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th of field is defined as the region around the focal point in which good diffraction pattern is mainta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pulse echo imaging, since a fixed transmit focus is used per firing, depth of field is closely related to the overall image qua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reasing Depth of 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26C4-3933-406E-AAE1-5674EEFAAB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d Exci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371600" y="1905120"/>
            <a:ext cx="6248160" cy="2653920"/>
            <a:chOff x="1371600" y="1905120"/>
            <a:chExt cx="6248160" cy="2653920"/>
          </a:xfrm>
        </p:grpSpPr>
        <p:sp>
          <p:nvSpPr>
            <p:cNvPr id="257" name=""/>
            <p:cNvSpPr/>
            <p:nvPr/>
          </p:nvSpPr>
          <p:spPr>
            <a:xfrm>
              <a:off x="2361960" y="2666880"/>
              <a:ext cx="1524240" cy="1371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6200000">
              <a:off x="1219320" y="3200040"/>
              <a:ext cx="1523520" cy="304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33360" y="342864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95680" y="2666880"/>
              <a:ext cx="1066680" cy="137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86200" y="27428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86200" y="29858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86200" y="32302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86200" y="34732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86200" y="37177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86200" y="39621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62360" y="271296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62360" y="29556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62360" y="320004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62360" y="344304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62360" y="36874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62360" y="39319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72200" y="2590560"/>
              <a:ext cx="1447560" cy="1447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371600" y="21333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590560" y="41907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53080" y="19810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38480" y="20570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mpression fil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86000" y="236196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6196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n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86000" y="23619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749880" y="4876920"/>
            <a:ext cx="75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range lobe levels are determined by filter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reasing Penet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3042-1373-417C-9DFC-D25A58083D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d Exci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application of coded excitation is to reduce peak intensity while maintaining the transmit p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useful for second harmonic applications in which acoustic intensity needs to be lowered in order not to destroy bub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reasing Penet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D5FA-1B7B-4F79-933E-058F1A6361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th of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19520" y="1981080"/>
            <a:ext cx="2832120" cy="4114800"/>
            <a:chOff x="2819520" y="1981080"/>
            <a:chExt cx="2832120" cy="4114800"/>
          </a:xfrm>
        </p:grpSpPr>
        <p:sp>
          <p:nvSpPr>
            <p:cNvPr id="48" name=""/>
            <p:cNvSpPr/>
            <p:nvPr/>
          </p:nvSpPr>
          <p:spPr>
            <a:xfrm>
              <a:off x="3505320" y="1981080"/>
              <a:ext cx="2133360" cy="304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505320" y="2286000"/>
              <a:ext cx="774720" cy="3809880"/>
            </a:xfrm>
            <a:custGeom>
              <a:avLst/>
              <a:gdLst/>
              <a:ahLst/>
              <a:rect l="l" t="t" r="r" b="b"/>
              <a:pathLst>
                <a:path w="488" h="2400">
                  <a:moveTo>
                    <a:pt x="0" y="0"/>
                  </a:moveTo>
                  <a:cubicBezTo>
                    <a:pt x="236" y="352"/>
                    <a:pt x="472" y="704"/>
                    <a:pt x="480" y="1104"/>
                  </a:cubicBezTo>
                  <a:cubicBezTo>
                    <a:pt x="488" y="1504"/>
                    <a:pt x="268" y="1952"/>
                    <a:pt x="48" y="24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4876920" y="2286000"/>
              <a:ext cx="774720" cy="3809880"/>
            </a:xfrm>
            <a:custGeom>
              <a:avLst/>
              <a:gdLst/>
              <a:ahLst/>
              <a:rect l="l" t="t" r="r" b="b"/>
              <a:pathLst>
                <a:path w="488" h="2400">
                  <a:moveTo>
                    <a:pt x="0" y="0"/>
                  </a:moveTo>
                  <a:cubicBezTo>
                    <a:pt x="236" y="352"/>
                    <a:pt x="472" y="704"/>
                    <a:pt x="480" y="1104"/>
                  </a:cubicBezTo>
                  <a:cubicBezTo>
                    <a:pt x="488" y="1504"/>
                    <a:pt x="268" y="1952"/>
                    <a:pt x="48" y="24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57600" y="3429000"/>
              <a:ext cx="13716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57600" y="4572000"/>
              <a:ext cx="1295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733920" y="34286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33920" y="4343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9520" y="38862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pth of 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334120" y="3155760"/>
            <a:ext cx="1142280" cy="272520"/>
            <a:chOff x="5334120" y="3155760"/>
            <a:chExt cx="1142280" cy="272520"/>
          </a:xfrm>
        </p:grpSpPr>
        <p:sp>
          <p:nvSpPr>
            <p:cNvPr id="57" name=""/>
            <p:cNvSpPr/>
            <p:nvPr/>
          </p:nvSpPr>
          <p:spPr>
            <a:xfrm flipV="1">
              <a:off x="5334120" y="3155400"/>
              <a:ext cx="1066320" cy="2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410080" y="3155400"/>
              <a:ext cx="1066320" cy="2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334120" y="4572360"/>
            <a:ext cx="1142280" cy="272520"/>
            <a:chOff x="5334120" y="4572360"/>
            <a:chExt cx="1142280" cy="272520"/>
          </a:xfrm>
        </p:grpSpPr>
        <p:sp>
          <p:nvSpPr>
            <p:cNvPr id="60" name=""/>
            <p:cNvSpPr/>
            <p:nvPr/>
          </p:nvSpPr>
          <p:spPr>
            <a:xfrm>
              <a:off x="5334120" y="4572360"/>
              <a:ext cx="1066320" cy="2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5410080" y="4572360"/>
              <a:ext cx="1066320" cy="2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486400" y="396252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reasing Depth of Fiel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7D7C-9E8B-49F2-B350-6590E28077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th of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th of field is defined as the incremental range relative to the focal point for which the phase errors at the ends of the active aperture are with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8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ly, depth of field = 2*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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#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defined as the ratio of the focal range to the active aperture size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the wave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reasing Depth of 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6218-F4CD-410F-B3D8-736AF8DE12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th of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r f-numbers or non-uniform apodization are commonly used to increase depth of field  (i.e., to improve image uniformit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th of field is gained at the price of loss in lateral re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reasing Depth of 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AB06-9AAF-4110-85B5-219DE7D3AA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th of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1981080"/>
            <a:ext cx="213336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2286000"/>
            <a:ext cx="914400" cy="3809880"/>
          </a:xfrm>
          <a:custGeom>
            <a:avLst/>
            <a:gdLst/>
            <a:ahLst/>
            <a:rect l="l" t="t" r="r" b="b"/>
            <a:pathLst>
              <a:path w="488" h="2400">
                <a:moveTo>
                  <a:pt x="0" y="0"/>
                </a:moveTo>
                <a:cubicBezTo>
                  <a:pt x="236" y="352"/>
                  <a:pt x="472" y="704"/>
                  <a:pt x="480" y="1104"/>
                </a:cubicBezTo>
                <a:cubicBezTo>
                  <a:pt x="488" y="1504"/>
                  <a:pt x="268" y="1952"/>
                  <a:pt x="48" y="24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724280" y="2286000"/>
            <a:ext cx="927360" cy="3809880"/>
          </a:xfrm>
          <a:custGeom>
            <a:avLst/>
            <a:gdLst/>
            <a:ahLst/>
            <a:rect l="l" t="t" r="r" b="b"/>
            <a:pathLst>
              <a:path w="488" h="2400">
                <a:moveTo>
                  <a:pt x="0" y="0"/>
                </a:moveTo>
                <a:cubicBezTo>
                  <a:pt x="236" y="352"/>
                  <a:pt x="472" y="704"/>
                  <a:pt x="480" y="1104"/>
                </a:cubicBezTo>
                <a:cubicBezTo>
                  <a:pt x="488" y="1504"/>
                  <a:pt x="268" y="1952"/>
                  <a:pt x="48" y="24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1981080"/>
            <a:ext cx="106704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2286000"/>
            <a:ext cx="393480" cy="3809880"/>
          </a:xfrm>
          <a:custGeom>
            <a:avLst/>
            <a:gdLst/>
            <a:ahLst/>
            <a:rect l="l" t="t" r="r" b="b"/>
            <a:pathLst>
              <a:path w="248" h="2400">
                <a:moveTo>
                  <a:pt x="48" y="0"/>
                </a:moveTo>
                <a:cubicBezTo>
                  <a:pt x="148" y="352"/>
                  <a:pt x="248" y="704"/>
                  <a:pt x="240" y="1104"/>
                </a:cubicBezTo>
                <a:cubicBezTo>
                  <a:pt x="232" y="1504"/>
                  <a:pt x="116" y="1952"/>
                  <a:pt x="0" y="24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800600" y="2286000"/>
            <a:ext cx="393840" cy="3809880"/>
          </a:xfrm>
          <a:custGeom>
            <a:avLst/>
            <a:gdLst/>
            <a:ahLst/>
            <a:rect l="l" t="t" r="r" b="b"/>
            <a:pathLst>
              <a:path w="248" h="2400">
                <a:moveTo>
                  <a:pt x="48" y="0"/>
                </a:moveTo>
                <a:cubicBezTo>
                  <a:pt x="148" y="352"/>
                  <a:pt x="248" y="704"/>
                  <a:pt x="240" y="1104"/>
                </a:cubicBezTo>
                <a:cubicBezTo>
                  <a:pt x="232" y="1504"/>
                  <a:pt x="116" y="1952"/>
                  <a:pt x="0" y="24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943600" y="3429000"/>
            <a:ext cx="1828800" cy="533520"/>
            <a:chOff x="5943600" y="3429000"/>
            <a:chExt cx="1828800" cy="533520"/>
          </a:xfrm>
        </p:grpSpPr>
        <p:sp>
          <p:nvSpPr>
            <p:cNvPr id="75" name=""/>
            <p:cNvSpPr/>
            <p:nvPr/>
          </p:nvSpPr>
          <p:spPr>
            <a:xfrm rot="16200000">
              <a:off x="6629400" y="3200400"/>
              <a:ext cx="533520" cy="990720"/>
            </a:xfrm>
            <a:prstGeom prst="flowChartDelay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39625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91520" y="3429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6400800" y="3429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00800" y="34290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05720" y="3429000"/>
              <a:ext cx="38088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reasing Depth of Fiel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FB59-0985-453C-85B8-07CC64F520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Transmit Fo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809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transmit foci may be used to increase the depth of fi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usually done serially. Therefore, frame rate is re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8480" y="1828800"/>
            <a:ext cx="1067040" cy="1981080"/>
            <a:chOff x="4038480" y="1828800"/>
            <a:chExt cx="1067040" cy="1981080"/>
          </a:xfrm>
        </p:grpSpPr>
        <p:sp>
          <p:nvSpPr>
            <p:cNvPr id="84" name=""/>
            <p:cNvSpPr/>
            <p:nvPr/>
          </p:nvSpPr>
          <p:spPr>
            <a:xfrm>
              <a:off x="4038480" y="1828800"/>
              <a:ext cx="106704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38480" y="2057400"/>
              <a:ext cx="393840" cy="609480"/>
            </a:xfrm>
            <a:custGeom>
              <a:avLst/>
              <a:gdLst/>
              <a:ahLst/>
              <a:rect l="l" t="t" r="r" b="b"/>
              <a:pathLst>
                <a:path w="248" h="384">
                  <a:moveTo>
                    <a:pt x="0" y="0"/>
                  </a:moveTo>
                  <a:cubicBezTo>
                    <a:pt x="116" y="64"/>
                    <a:pt x="232" y="128"/>
                    <a:pt x="240" y="192"/>
                  </a:cubicBezTo>
                  <a:cubicBezTo>
                    <a:pt x="248" y="256"/>
                    <a:pt x="148" y="320"/>
                    <a:pt x="48" y="3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4647600" y="2057400"/>
              <a:ext cx="393480" cy="609480"/>
            </a:xfrm>
            <a:custGeom>
              <a:avLst/>
              <a:gdLst/>
              <a:ahLst/>
              <a:rect l="l" t="t" r="r" b="b"/>
              <a:pathLst>
                <a:path w="248" h="384">
                  <a:moveTo>
                    <a:pt x="0" y="0"/>
                  </a:moveTo>
                  <a:cubicBezTo>
                    <a:pt x="116" y="64"/>
                    <a:pt x="232" y="128"/>
                    <a:pt x="240" y="192"/>
                  </a:cubicBezTo>
                  <a:cubicBezTo>
                    <a:pt x="248" y="256"/>
                    <a:pt x="148" y="320"/>
                    <a:pt x="48" y="3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38480" y="2057400"/>
              <a:ext cx="393840" cy="1295280"/>
            </a:xfrm>
            <a:custGeom>
              <a:avLst/>
              <a:gdLst/>
              <a:ahLst/>
              <a:rect l="l" t="t" r="r" b="b"/>
              <a:pathLst>
                <a:path w="248" h="816">
                  <a:moveTo>
                    <a:pt x="0" y="0"/>
                  </a:moveTo>
                  <a:cubicBezTo>
                    <a:pt x="116" y="172"/>
                    <a:pt x="232" y="344"/>
                    <a:pt x="240" y="480"/>
                  </a:cubicBezTo>
                  <a:cubicBezTo>
                    <a:pt x="248" y="616"/>
                    <a:pt x="148" y="716"/>
                    <a:pt x="48" y="8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647600" y="2057400"/>
              <a:ext cx="393480" cy="1295280"/>
            </a:xfrm>
            <a:custGeom>
              <a:avLst/>
              <a:gdLst/>
              <a:ahLst/>
              <a:rect l="l" t="t" r="r" b="b"/>
              <a:pathLst>
                <a:path w="248" h="816">
                  <a:moveTo>
                    <a:pt x="0" y="0"/>
                  </a:moveTo>
                  <a:cubicBezTo>
                    <a:pt x="116" y="172"/>
                    <a:pt x="232" y="344"/>
                    <a:pt x="240" y="480"/>
                  </a:cubicBezTo>
                  <a:cubicBezTo>
                    <a:pt x="248" y="616"/>
                    <a:pt x="148" y="716"/>
                    <a:pt x="48" y="8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38480" y="2057400"/>
              <a:ext cx="393840" cy="1752480"/>
            </a:xfrm>
            <a:custGeom>
              <a:avLst/>
              <a:gdLst/>
              <a:ahLst/>
              <a:rect l="l" t="t" r="r" b="b"/>
              <a:pathLst>
                <a:path w="248" h="1104">
                  <a:moveTo>
                    <a:pt x="0" y="0"/>
                  </a:moveTo>
                  <a:cubicBezTo>
                    <a:pt x="116" y="268"/>
                    <a:pt x="232" y="536"/>
                    <a:pt x="240" y="720"/>
                  </a:cubicBezTo>
                  <a:cubicBezTo>
                    <a:pt x="248" y="904"/>
                    <a:pt x="148" y="1004"/>
                    <a:pt x="48" y="110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4647600" y="2057400"/>
              <a:ext cx="393480" cy="1752480"/>
            </a:xfrm>
            <a:custGeom>
              <a:avLst/>
              <a:gdLst/>
              <a:ahLst/>
              <a:rect l="l" t="t" r="r" b="b"/>
              <a:pathLst>
                <a:path w="248" h="1104">
                  <a:moveTo>
                    <a:pt x="0" y="0"/>
                  </a:moveTo>
                  <a:cubicBezTo>
                    <a:pt x="116" y="268"/>
                    <a:pt x="232" y="536"/>
                    <a:pt x="240" y="720"/>
                  </a:cubicBezTo>
                  <a:cubicBezTo>
                    <a:pt x="248" y="904"/>
                    <a:pt x="148" y="1004"/>
                    <a:pt x="48" y="110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reasing Depth of 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D5CD-41F8-44B7-9B8B-1C48FE0F35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Transmit Focu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mplest way of producing multiple transmit foci simultaneously is to combine multiple pulses into a new pulse. The timing is determined by geome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ethod suffers from interference between different foc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reasing Depth of 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D15A-36D9-443D-B2E4-0412C5FBFF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Transmit Focu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4495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complicated coded excitations may be used, but success has been lim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1905120"/>
            <a:ext cx="457200" cy="2133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2286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20574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2514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971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27432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32004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657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3429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38862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057400"/>
            <a:ext cx="609480" cy="1828800"/>
          </a:xfrm>
          <a:custGeom>
            <a:avLst/>
            <a:gdLst/>
            <a:ahLst/>
            <a:rect l="l" t="t" r="r" b="b"/>
            <a:pathLst>
              <a:path w="384" h="1152">
                <a:moveTo>
                  <a:pt x="384" y="0"/>
                </a:moveTo>
                <a:cubicBezTo>
                  <a:pt x="192" y="192"/>
                  <a:pt x="0" y="384"/>
                  <a:pt x="0" y="576"/>
                </a:cubicBezTo>
                <a:cubicBezTo>
                  <a:pt x="0" y="768"/>
                  <a:pt x="192" y="960"/>
                  <a:pt x="384" y="1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2057400"/>
            <a:ext cx="304560" cy="1828800"/>
          </a:xfrm>
          <a:custGeom>
            <a:avLst/>
            <a:gdLst/>
            <a:ahLst/>
            <a:rect l="l" t="t" r="r" b="b"/>
            <a:pathLst>
              <a:path w="192" h="1152">
                <a:moveTo>
                  <a:pt x="192" y="0"/>
                </a:moveTo>
                <a:cubicBezTo>
                  <a:pt x="96" y="192"/>
                  <a:pt x="0" y="384"/>
                  <a:pt x="0" y="576"/>
                </a:cubicBezTo>
                <a:cubicBezTo>
                  <a:pt x="0" y="768"/>
                  <a:pt x="96" y="960"/>
                  <a:pt x="192" y="1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reasing Depth of 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34F4-84F2-4EAD-82CD-1BE5853E3D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7T14:21:01Z</dcterms:created>
  <dc:creator>李百祺</dc:creator>
  <dc:description/>
  <dc:language>en-US</dc:language>
  <cp:lastModifiedBy>李百祺老師</cp:lastModifiedBy>
  <dcterms:modified xsi:type="dcterms:W3CDTF">1998-03-18T10:15:24Z</dcterms:modified>
  <cp:revision>57</cp:revision>
  <dc:subject/>
  <dc:title>無投影片標題</dc:title>
</cp:coreProperties>
</file>