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876-BA99-4848-BCA9-958D6F05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376-B73F-4969-9575-87A7D6E1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66F-9137-4F78-A12E-7FD37A2A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0EE-2D73-44F9-AFFA-53FADAAA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ED4-3776-4897-8CF6-54F55B8E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8C2-7EC0-4C59-A600-160825D3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0A0-E4E6-4A9C-9567-61F9CFD8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30A-F84F-4135-9F98-5258998B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DAC-4540-4229-9648-07038D20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AC35-E59C-4AB7-AC50-737714EB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933-9195-4176-A049-EFB8DC7B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DFC-96C0-4B1C-99ED-3D174C82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BA6E-42A6-4F99-9BD5-D0D8783FFF8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7925040" cy="5638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Front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w Fronti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5A9-CBE1-4CA5-9268-B925E15679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ta-Sigma Beamfor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lta-sigma A/D compromises output bit density for increased sampling r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elta-sigma beamformer, delays and sums can be performed on the single bit outpu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perly designed delta-sigma beamformer can achieve similar signal-to-noise ratio as a typical multiple bit A/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w Fronti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79A-7F26-4511-91B5-03A9788F52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ta-Sigma Beamfor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19320" y="2209680"/>
            <a:ext cx="6858000" cy="3202920"/>
            <a:chOff x="1219320" y="2209680"/>
            <a:chExt cx="6858000" cy="3202920"/>
          </a:xfrm>
        </p:grpSpPr>
        <p:grpSp>
          <p:nvGrpSpPr>
            <p:cNvPr id="47" name=""/>
            <p:cNvGrpSpPr/>
            <p:nvPr/>
          </p:nvGrpSpPr>
          <p:grpSpPr>
            <a:xfrm>
              <a:off x="1219320" y="2209680"/>
              <a:ext cx="6858000" cy="2390400"/>
              <a:chOff x="1219320" y="2209680"/>
              <a:chExt cx="6858000" cy="2390400"/>
            </a:xfrm>
          </p:grpSpPr>
          <p:sp>
            <p:nvSpPr>
              <p:cNvPr id="48" name=""/>
              <p:cNvSpPr/>
              <p:nvPr/>
            </p:nvSpPr>
            <p:spPr>
              <a:xfrm>
                <a:off x="1219320" y="2209680"/>
                <a:ext cx="381240" cy="22860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5400000">
                <a:off x="2019240" y="2324160"/>
                <a:ext cx="304920" cy="2286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5400000">
                <a:off x="2019240" y="4152960"/>
                <a:ext cx="304920" cy="2286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600560" y="2438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60056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286360" y="2209680"/>
                <a:ext cx="1600200" cy="56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bitA/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@40MHz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038840" y="2286000"/>
                <a:ext cx="8380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IF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038840" y="4114800"/>
                <a:ext cx="8380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IF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105520" y="2286000"/>
                <a:ext cx="83844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nter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105520" y="4114800"/>
                <a:ext cx="83844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nter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248520" y="3276720"/>
                <a:ext cx="304920" cy="304560"/>
              </a:xfrm>
              <a:prstGeom prst="flowChar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943960" y="2514600"/>
                <a:ext cx="45720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5943960" y="3580920"/>
                <a:ext cx="4572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86560" y="24382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86560" y="4267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876920" y="2438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876920" y="4267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43560" y="3200400"/>
                <a:ext cx="7596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743560" y="3352680"/>
                <a:ext cx="7596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43560" y="3505320"/>
                <a:ext cx="7596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410440" y="3200400"/>
                <a:ext cx="763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10440" y="3352680"/>
                <a:ext cx="763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410440" y="3505320"/>
                <a:ext cx="763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553440" y="34290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86360" y="4038480"/>
                <a:ext cx="1600200" cy="56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bitA/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@40MHz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91560" y="2354400"/>
                <a:ext cx="1085760" cy="580680"/>
              </a:xfrm>
              <a:prstGeom prst="borderCallout2">
                <a:avLst>
                  <a:gd name="adj1" fmla="val 18750"/>
                  <a:gd name="adj2" fmla="val -8333"/>
                  <a:gd name="adj3" fmla="val 13689"/>
                  <a:gd name="adj4" fmla="val -14912"/>
                  <a:gd name="adj5" fmla="val 179986"/>
                  <a:gd name="adj6" fmla="val -23231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i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@40MHz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2666880" y="4952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ventional Beamform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w Fronti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018-D552-4BFD-B2C8-A8FCC69827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ta-Sigma Beamfor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371600" y="2057400"/>
            <a:ext cx="6629400" cy="3404520"/>
            <a:chOff x="1371600" y="2057400"/>
            <a:chExt cx="6629400" cy="3404520"/>
          </a:xfrm>
        </p:grpSpPr>
        <p:sp>
          <p:nvSpPr>
            <p:cNvPr id="77" name=""/>
            <p:cNvSpPr/>
            <p:nvPr/>
          </p:nvSpPr>
          <p:spPr>
            <a:xfrm>
              <a:off x="1371600" y="2259000"/>
              <a:ext cx="38088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5400000">
              <a:off x="2171160" y="2373480"/>
              <a:ext cx="30492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5400000">
              <a:off x="2171160" y="4202280"/>
              <a:ext cx="304920" cy="228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52480" y="2487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52480" y="4316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38280" y="2259000"/>
              <a:ext cx="1600200" cy="56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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/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@320M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90760" y="2335320"/>
              <a:ext cx="838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90760" y="4164120"/>
              <a:ext cx="838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29200" y="241164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029200" y="363024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38480" y="2487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480" y="4316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95480" y="3249720"/>
              <a:ext cx="763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95480" y="3402000"/>
              <a:ext cx="763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95480" y="3554640"/>
              <a:ext cx="763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24280" y="3249720"/>
              <a:ext cx="763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24280" y="3403800"/>
              <a:ext cx="763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24280" y="3554640"/>
              <a:ext cx="763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38680" y="3478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4087800"/>
              <a:ext cx="1600200" cy="56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bitA/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@40M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95880" y="4316400"/>
              <a:ext cx="1085760" cy="580680"/>
            </a:xfrm>
            <a:prstGeom prst="borderCallout2">
              <a:avLst>
                <a:gd name="adj1" fmla="val 18750"/>
                <a:gd name="adj2" fmla="val -8333"/>
                <a:gd name="adj3" fmla="val 19356"/>
                <a:gd name="adj4" fmla="val 115791"/>
                <a:gd name="adj5" fmla="val -146032"/>
                <a:gd name="adj6" fmla="val 12555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@40M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19160" y="50022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lta-Sigma Beamform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3760" y="3333960"/>
              <a:ext cx="304920" cy="304560"/>
            </a:xfrm>
            <a:prstGeom prst="flowChar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9560" y="3097440"/>
              <a:ext cx="12956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er/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cim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3478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2057400"/>
              <a:ext cx="1143000" cy="580680"/>
            </a:xfrm>
            <a:prstGeom prst="borderCallout2">
              <a:avLst>
                <a:gd name="adj1" fmla="val 18750"/>
                <a:gd name="adj2" fmla="val -8333"/>
                <a:gd name="adj3" fmla="val 13689"/>
                <a:gd name="adj4" fmla="val -27083"/>
                <a:gd name="adj5" fmla="val 234754"/>
                <a:gd name="adj6" fmla="val -483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@320M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w Fronti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C23-255D-466E-BCDF-352EE32666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-Time Volumetric Im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trics Medical Imag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-time volumetric, 3D imag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diology 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taneous display of multiple B-mode images and C-scan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urface rendering, volume rendering or shading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w Fronti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B8F-B32A-4ADB-8AE8-A02ABB97E4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-Time Volumetric Im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Hz 2D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ly symmetric 16mm on a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ximately 2000 elements, 512 of which are conn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6 elements for transmit, 256 elements for rece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w Fronti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2E2F-ECAF-46B3-95F2-BCA875DA03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-Time Volumetric Im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 beams on rece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96 lines that are spaced approximately 1 degree apa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enty two 64X64 degree pyramidal volumes per second at 15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w Fronti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2AB9-4F71-4196-AB8D-118CB8F5D6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-Time Volumetric Im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 to 16 views can be displayed simultaneous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re data set is stored. Therefore, various locations and scan planes can be displayed during re-pl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to increase throughput, and the skill level necessary to produce a high quality scan can be decrea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w Fronti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D0E-F03D-4D4B-8D8D-8C7B74BB50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-Time Volumetric Im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ical applications include LV function, RV function, LV volumes, myocardial mass and myocardial perfu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Doppler cap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uture of ultrasonic imaging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w Fronti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8090-BA49-4720-A22D-69863E989F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30T17:30:28Z</dcterms:created>
  <dc:creator>李百祺</dc:creator>
  <dc:description/>
  <dc:language>en-US</dc:language>
  <cp:lastModifiedBy>李百祺老師</cp:lastModifiedBy>
  <dcterms:modified xsi:type="dcterms:W3CDTF">1998-06-03T07:19:16Z</dcterms:modified>
  <cp:revision>21</cp:revision>
  <dc:subject/>
  <dc:title>New Frontiers</dc:title>
</cp:coreProperties>
</file>