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5.png" ContentType="image/png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6345B-C9CC-4116-AA46-F4AECE425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949F7-A35D-4A26-B41F-7C96F23A1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3F9B6-C407-442E-AC91-F6590AACC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57D7E-0C11-4D02-A844-274EB0C68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C6ED4-521B-484A-8730-627EE1F46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EADF3-2419-4957-968D-532D2F2E2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A120D-14B7-4866-B782-DE0395192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D1D29-11B5-4A2B-9C8B-75FA3E4E6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10C25-DE7D-431B-A0A8-D0419DB6A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5676D-B2C6-4340-AE90-2B212FE60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253C7-446E-4520-8199-4CE2BE076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B4195-A162-4C33-AE89-75154A52C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D7AC2-64E7-49A3-80D7-418BB449CFC6}" type="slidenum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533520" y="457200"/>
            <a:ext cx="8076960" cy="57913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berration Corr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berration Corre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0044E-0F79-49F3-BE08-4639786CAE1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rrelation Based Metho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312372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rrelation using signals from diffuse scatterers under-estimates the phase erro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larger the phase errors, the more severe the underestim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eration is necessary (a stable process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3505320" y="1752480"/>
            <a:ext cx="2438280" cy="1294560"/>
            <a:chOff x="3505320" y="1752480"/>
            <a:chExt cx="2438280" cy="1294560"/>
          </a:xfrm>
        </p:grpSpPr>
        <p:grpSp>
          <p:nvGrpSpPr>
            <p:cNvPr id="141" name=""/>
            <p:cNvGrpSpPr/>
            <p:nvPr/>
          </p:nvGrpSpPr>
          <p:grpSpPr>
            <a:xfrm>
              <a:off x="3505320" y="1752480"/>
              <a:ext cx="151200" cy="685080"/>
              <a:chOff x="3505320" y="1752480"/>
              <a:chExt cx="151200" cy="685080"/>
            </a:xfrm>
          </p:grpSpPr>
          <p:sp>
            <p:nvSpPr>
              <p:cNvPr id="142" name=""/>
              <p:cNvSpPr/>
              <p:nvPr/>
            </p:nvSpPr>
            <p:spPr>
              <a:xfrm flipH="1">
                <a:off x="3505320" y="1828800"/>
                <a:ext cx="151200" cy="60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 flipH="1" flipV="1">
                <a:off x="3505320" y="1752120"/>
                <a:ext cx="151200" cy="60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4" name=""/>
            <p:cNvGrpSpPr/>
            <p:nvPr/>
          </p:nvGrpSpPr>
          <p:grpSpPr>
            <a:xfrm>
              <a:off x="3505320" y="1904760"/>
              <a:ext cx="151200" cy="685080"/>
              <a:chOff x="3505320" y="1904760"/>
              <a:chExt cx="151200" cy="685080"/>
            </a:xfrm>
          </p:grpSpPr>
          <p:sp>
            <p:nvSpPr>
              <p:cNvPr id="145" name=""/>
              <p:cNvSpPr/>
              <p:nvPr/>
            </p:nvSpPr>
            <p:spPr>
              <a:xfrm flipH="1">
                <a:off x="3505320" y="1981080"/>
                <a:ext cx="151200" cy="60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flipH="1" flipV="1">
                <a:off x="3505320" y="1904400"/>
                <a:ext cx="151200" cy="60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7" name=""/>
            <p:cNvGrpSpPr/>
            <p:nvPr/>
          </p:nvGrpSpPr>
          <p:grpSpPr>
            <a:xfrm>
              <a:off x="3505320" y="2057040"/>
              <a:ext cx="151200" cy="685080"/>
              <a:chOff x="3505320" y="2057040"/>
              <a:chExt cx="151200" cy="685080"/>
            </a:xfrm>
          </p:grpSpPr>
          <p:sp>
            <p:nvSpPr>
              <p:cNvPr id="148" name=""/>
              <p:cNvSpPr/>
              <p:nvPr/>
            </p:nvSpPr>
            <p:spPr>
              <a:xfrm flipH="1">
                <a:off x="3505320" y="2133360"/>
                <a:ext cx="151200" cy="60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 flipH="1" flipV="1">
                <a:off x="3505320" y="2056680"/>
                <a:ext cx="151200" cy="60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0" name=""/>
            <p:cNvGrpSpPr/>
            <p:nvPr/>
          </p:nvGrpSpPr>
          <p:grpSpPr>
            <a:xfrm>
              <a:off x="3505320" y="2209680"/>
              <a:ext cx="151200" cy="685080"/>
              <a:chOff x="3505320" y="2209680"/>
              <a:chExt cx="151200" cy="685080"/>
            </a:xfrm>
          </p:grpSpPr>
          <p:sp>
            <p:nvSpPr>
              <p:cNvPr id="151" name=""/>
              <p:cNvSpPr/>
              <p:nvPr/>
            </p:nvSpPr>
            <p:spPr>
              <a:xfrm flipH="1">
                <a:off x="3505320" y="2286000"/>
                <a:ext cx="151200" cy="60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flipH="1" flipV="1">
                <a:off x="3505320" y="2209320"/>
                <a:ext cx="151200" cy="60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3" name=""/>
            <p:cNvGrpSpPr/>
            <p:nvPr/>
          </p:nvGrpSpPr>
          <p:grpSpPr>
            <a:xfrm>
              <a:off x="3505320" y="2361960"/>
              <a:ext cx="151200" cy="685080"/>
              <a:chOff x="3505320" y="2361960"/>
              <a:chExt cx="151200" cy="685080"/>
            </a:xfrm>
          </p:grpSpPr>
          <p:sp>
            <p:nvSpPr>
              <p:cNvPr id="154" name=""/>
              <p:cNvSpPr/>
              <p:nvPr/>
            </p:nvSpPr>
            <p:spPr>
              <a:xfrm flipH="1">
                <a:off x="3505320" y="2438280"/>
                <a:ext cx="151200" cy="60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 flipH="1" flipV="1">
                <a:off x="3505320" y="2361600"/>
                <a:ext cx="151200" cy="60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6" name=""/>
            <p:cNvSpPr/>
            <p:nvPr/>
          </p:nvSpPr>
          <p:spPr>
            <a:xfrm>
              <a:off x="3505320" y="2361960"/>
              <a:ext cx="2438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581280" y="1904760"/>
              <a:ext cx="23623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flipV="1">
              <a:off x="3505320" y="2361960"/>
              <a:ext cx="243828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724640" y="2133360"/>
              <a:ext cx="15192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V="1">
              <a:off x="4724640" y="2132640"/>
              <a:ext cx="15192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berration Corre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57C11-D486-462B-8616-0BA22C50374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ternative Metho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rrelation based method is equivalent to minimizing 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norm. Some alternative methods minimize 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nor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rrelation based method is equivalent to a maximum brightness techniqu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berration Corre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E40C7-FEDD-4C1B-ABB5-1A87347988B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seband Metho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41144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formulation is very similar to the correlation technique used in Color Doppl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696960" y="2438280"/>
                <a:ext cx="7751880" cy="73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B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τ</m:t>
                        </m:r>
                        <m:r>
                          <m:t xml:space="preserve">)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B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  <m:sup/>
                        </m:sSubSup>
                      </m:e>
                    </m:nary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t xml:space="preserve">τ</m:t>
                    </m:r>
                    <m:r>
                      <m:t xml:space="preserve">)</m:t>
                    </m:r>
                    <m:r>
                      <m:t xml:space="preserve">dτ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sSub>
                          <m:e>
                            <m:r>
                              <m:t xml:space="preserve">j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sSub>
                          <m:e>
                            <m:r>
                              <m:t xml:space="preserve">Δt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sup>
                    </m:sSup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A</m:t>
                        </m:r>
                        <m:r>
                          <m:t xml:space="preserve">(</m:t>
                        </m:r>
                        <m:r>
                          <m:t xml:space="preserve">τ</m:t>
                        </m:r>
                        <m:r>
                          <m:t xml:space="preserve">)</m:t>
                        </m:r>
                        <m:r>
                          <m:t xml:space="preserve">A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τ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Δt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dτ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2590920" y="3200400"/>
                <a:ext cx="396216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t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an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Im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/Re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berration Corre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D37E1-CE47-449F-B631-F7A5C25A0CE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seband Metho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2666880" y="2133720"/>
                <a:ext cx="3886200" cy="66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m</m:t>
                        </m:r>
                        <m:r>
                          <m:t xml:space="preserve">∈</m:t>
                        </m:r>
                        <m:r>
                          <m:rPr>
                            <m:lit/>
                            <m:nor/>
                          </m:rPr>
                          <m:t xml:space="preserve">region of interest</m:t>
                        </m:r>
                      </m:sub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B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r>
                      <m:t xml:space="preserve">m</m:t>
                    </m:r>
                    <m:r>
                      <m:t xml:space="preserve">)</m:t>
                    </m:r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/>
                    </m:sSubSup>
                    <m:r>
                      <m:t xml:space="preserve">(</m:t>
                    </m:r>
                    <m:r>
                      <m:t xml:space="preserve">m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69" name=""/>
          <p:cNvGrpSpPr/>
          <p:nvPr/>
        </p:nvGrpSpPr>
        <p:grpSpPr>
          <a:xfrm>
            <a:off x="1523880" y="3429000"/>
            <a:ext cx="5790960" cy="2438280"/>
            <a:chOff x="1523880" y="3429000"/>
            <a:chExt cx="5790960" cy="2438280"/>
          </a:xfrm>
        </p:grpSpPr>
        <p:sp>
          <p:nvSpPr>
            <p:cNvPr id="170" name=""/>
            <p:cNvSpPr/>
            <p:nvPr/>
          </p:nvSpPr>
          <p:spPr>
            <a:xfrm>
              <a:off x="2971440" y="3429000"/>
              <a:ext cx="1143000" cy="587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ORDI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981080" y="3581280"/>
              <a:ext cx="99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981080" y="3886200"/>
              <a:ext cx="99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971440" y="4952880"/>
              <a:ext cx="1143000" cy="587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ORDI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57040" y="510552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57040" y="541008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6" name=""/>
            <p:cNvGrpSpPr/>
            <p:nvPr/>
          </p:nvGrpSpPr>
          <p:grpSpPr>
            <a:xfrm>
              <a:off x="1523880" y="3429000"/>
              <a:ext cx="457200" cy="673200"/>
              <a:chOff x="1523880" y="3429000"/>
              <a:chExt cx="457200" cy="673200"/>
            </a:xfrm>
          </p:grpSpPr>
          <p:sp>
            <p:nvSpPr>
              <p:cNvPr id="177" name=""/>
              <p:cNvSpPr/>
              <p:nvPr/>
            </p:nvSpPr>
            <p:spPr>
              <a:xfrm>
                <a:off x="1599840" y="3429000"/>
                <a:ext cx="228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1523880" y="3733920"/>
                <a:ext cx="457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9" name=""/>
            <p:cNvGrpSpPr/>
            <p:nvPr/>
          </p:nvGrpSpPr>
          <p:grpSpPr>
            <a:xfrm>
              <a:off x="1523880" y="4876920"/>
              <a:ext cx="457200" cy="673200"/>
              <a:chOff x="1523880" y="4876920"/>
              <a:chExt cx="457200" cy="673200"/>
            </a:xfrm>
          </p:grpSpPr>
          <p:sp>
            <p:nvSpPr>
              <p:cNvPr id="180" name=""/>
              <p:cNvSpPr/>
              <p:nvPr/>
            </p:nvSpPr>
            <p:spPr>
              <a:xfrm>
                <a:off x="1599840" y="4876920"/>
                <a:ext cx="228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1523880" y="5181840"/>
                <a:ext cx="457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2" name=""/>
            <p:cNvSpPr/>
            <p:nvPr/>
          </p:nvSpPr>
          <p:spPr>
            <a:xfrm>
              <a:off x="4800240" y="4952880"/>
              <a:ext cx="228600" cy="228600"/>
            </a:xfrm>
            <a:prstGeom prst="flowChartSummingJunction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800240" y="5329080"/>
              <a:ext cx="228600" cy="228600"/>
            </a:xfrm>
            <a:prstGeom prst="flowChartSummingJunction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114440" y="510552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114440" y="54100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638680" y="4986360"/>
              <a:ext cx="228600" cy="228600"/>
            </a:xfrm>
            <a:prstGeom prst="flowChartOr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028840" y="5105520"/>
              <a:ext cx="609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028840" y="5410080"/>
              <a:ext cx="609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171840" y="4800600"/>
              <a:ext cx="60984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acc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flipV="1">
              <a:off x="5790960" y="460800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790960" y="4572000"/>
              <a:ext cx="65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790960" y="4572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441840" y="4572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781680" y="50292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638680" y="5295960"/>
              <a:ext cx="228600" cy="228600"/>
            </a:xfrm>
            <a:prstGeom prst="flowChartOr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171840" y="5257800"/>
              <a:ext cx="60984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acc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867280" y="541008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749560" y="552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749560" y="5867280"/>
              <a:ext cx="65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V="1">
              <a:off x="5749560" y="56383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V="1">
              <a:off x="6400440" y="56383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781680" y="5410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714640" y="3467160"/>
              <a:ext cx="228600" cy="228600"/>
            </a:xfrm>
            <a:prstGeom prst="flowChartOr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248160" y="3429000"/>
              <a:ext cx="60948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acc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943240" y="358128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825880" y="36972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825880" y="4038480"/>
              <a:ext cx="65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 flipV="1">
              <a:off x="5825880" y="38095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 flipV="1">
              <a:off x="6476760" y="38095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857640" y="3581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114440" y="358128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919400" y="51814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809880" y="4343400"/>
              <a:ext cx="1066680" cy="337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Q sign b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285640" y="4343400"/>
              <a:ext cx="1295640" cy="337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ign contro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15" name=""/>
            <p:cNvCxnSpPr>
              <a:stCxn id="170" idx="3"/>
              <a:endCxn id="213" idx="0"/>
            </p:cNvCxnSpPr>
            <p:nvPr/>
          </p:nvCxnSpPr>
          <p:spPr>
            <a:xfrm>
              <a:off x="4114080" y="3727080"/>
              <a:ext cx="229320" cy="616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16" name=""/>
            <p:cNvSpPr/>
            <p:nvPr/>
          </p:nvSpPr>
          <p:spPr>
            <a:xfrm flipH="1">
              <a:off x="3580920" y="44956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910040" y="3573360"/>
              <a:ext cx="0" cy="137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 flipV="1">
              <a:off x="3276360" y="403812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276360" y="47242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berration Correc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CBEFB-438C-47B9-9D53-F49E40EF7C6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e-Dimensional Correction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l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und velocity inhomogeneities are not restricted to the array direction. Therefore, two-dimensional correction is necessary in most cas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near field model may not be correct in some cas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berration Corre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5333A-F596-4583-9075-9E0C173CB73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-Dimensional Corr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1D arrays, time delay errors can only be corrected along the array direction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ignal received by each channel of a 1D array is an average signal. Hence, estimation accuracy may be reduced if the elevational height is lar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D correction is necessary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berration Corre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48B05-DBB9-4D22-B357-4BDF55C843A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-Dimensional Corr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array element has four adjacent element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orrelation path between two array elements can be arbitrar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hase error between any two elements should be independent of the correlation pat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berration Corre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13C93-92B3-4911-9B70-DFA22BAF315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ull 2D Corr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1828800" y="1905120"/>
            <a:ext cx="5334120" cy="368280"/>
            <a:chOff x="1828800" y="1905120"/>
            <a:chExt cx="5334120" cy="368280"/>
          </a:xfrm>
        </p:grpSpPr>
        <p:sp>
          <p:nvSpPr>
            <p:cNvPr id="228" name=""/>
            <p:cNvSpPr/>
            <p:nvPr/>
          </p:nvSpPr>
          <p:spPr>
            <a:xfrm>
              <a:off x="1828800" y="1905120"/>
              <a:ext cx="68580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Times New Roman"/>
                </a:rPr>
                <a:t>(1,1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477120" y="1905120"/>
              <a:ext cx="68580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Times New Roman"/>
                </a:rPr>
                <a:t>(1,3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191120" y="1905120"/>
              <a:ext cx="68580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Times New Roman"/>
                </a:rPr>
                <a:t>(1,2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971800" y="1905120"/>
              <a:ext cx="68580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or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257800" y="1905120"/>
              <a:ext cx="68580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or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3" name=""/>
          <p:cNvGrpSpPr/>
          <p:nvPr/>
        </p:nvGrpSpPr>
        <p:grpSpPr>
          <a:xfrm>
            <a:off x="1828800" y="5029200"/>
            <a:ext cx="5334120" cy="368280"/>
            <a:chOff x="1828800" y="5029200"/>
            <a:chExt cx="5334120" cy="368280"/>
          </a:xfrm>
        </p:grpSpPr>
        <p:sp>
          <p:nvSpPr>
            <p:cNvPr id="234" name=""/>
            <p:cNvSpPr/>
            <p:nvPr/>
          </p:nvSpPr>
          <p:spPr>
            <a:xfrm>
              <a:off x="1828800" y="5029200"/>
              <a:ext cx="68580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Times New Roman"/>
                </a:rPr>
                <a:t>(3,1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477120" y="5029200"/>
              <a:ext cx="68580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Times New Roman"/>
                </a:rPr>
                <a:t>(3,3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191120" y="5029200"/>
              <a:ext cx="68580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Times New Roman"/>
                </a:rPr>
                <a:t>(3,2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971800" y="5029200"/>
              <a:ext cx="68580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or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257800" y="5029200"/>
              <a:ext cx="68580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or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9" name=""/>
          <p:cNvGrpSpPr/>
          <p:nvPr/>
        </p:nvGrpSpPr>
        <p:grpSpPr>
          <a:xfrm>
            <a:off x="1828800" y="3429000"/>
            <a:ext cx="5334120" cy="368280"/>
            <a:chOff x="1828800" y="3429000"/>
            <a:chExt cx="5334120" cy="368280"/>
          </a:xfrm>
        </p:grpSpPr>
        <p:sp>
          <p:nvSpPr>
            <p:cNvPr id="240" name=""/>
            <p:cNvSpPr/>
            <p:nvPr/>
          </p:nvSpPr>
          <p:spPr>
            <a:xfrm>
              <a:off x="1828800" y="3429000"/>
              <a:ext cx="68580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Times New Roman"/>
                </a:rPr>
                <a:t>(2,1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477120" y="3429000"/>
              <a:ext cx="68580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Times New Roman"/>
                </a:rPr>
                <a:t>(2,3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191120" y="3429000"/>
              <a:ext cx="68580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Times New Roman"/>
                </a:rPr>
                <a:t>(2,2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971800" y="3429000"/>
              <a:ext cx="68580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or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257800" y="3429000"/>
              <a:ext cx="68580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or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5" name=""/>
          <p:cNvSpPr/>
          <p:nvPr/>
        </p:nvSpPr>
        <p:spPr>
          <a:xfrm>
            <a:off x="1918800" y="2590920"/>
            <a:ext cx="4546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r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357080" y="2590920"/>
            <a:ext cx="4546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r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643080" y="2590920"/>
            <a:ext cx="4546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r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918800" y="4114800"/>
            <a:ext cx="4546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r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57080" y="4114800"/>
            <a:ext cx="4546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r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43080" y="4114800"/>
            <a:ext cx="4546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r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133720" y="22860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133720" y="32004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133720" y="3809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133720" y="4724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514600" y="20574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657600" y="20574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876920" y="20574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943600" y="20574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572000" y="22860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572000" y="32004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572000" y="3809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572000" y="4724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858000" y="22860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858000" y="32004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858000" y="3809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858000" y="4724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514600" y="3657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657600" y="36576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876920" y="3657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943600" y="36576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514600" y="5257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657600" y="5257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876920" y="52578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943600" y="5257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7391520" y="2057400"/>
            <a:ext cx="380520" cy="76320"/>
            <a:chOff x="7391520" y="2057400"/>
            <a:chExt cx="380520" cy="76320"/>
          </a:xfrm>
        </p:grpSpPr>
        <p:sp>
          <p:nvSpPr>
            <p:cNvPr id="276" name=""/>
            <p:cNvSpPr/>
            <p:nvPr/>
          </p:nvSpPr>
          <p:spPr>
            <a:xfrm>
              <a:off x="7391520" y="2057400"/>
              <a:ext cx="75960" cy="76320"/>
            </a:xfrm>
            <a:prstGeom prst="flowChartConnector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543800" y="2057400"/>
              <a:ext cx="75600" cy="76320"/>
            </a:xfrm>
            <a:prstGeom prst="flowChartConnector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7696080" y="2057400"/>
              <a:ext cx="75960" cy="76320"/>
            </a:xfrm>
            <a:prstGeom prst="flowChartConnector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7391520" y="3581280"/>
            <a:ext cx="380520" cy="76320"/>
            <a:chOff x="7391520" y="3581280"/>
            <a:chExt cx="380520" cy="76320"/>
          </a:xfrm>
        </p:grpSpPr>
        <p:sp>
          <p:nvSpPr>
            <p:cNvPr id="280" name=""/>
            <p:cNvSpPr/>
            <p:nvPr/>
          </p:nvSpPr>
          <p:spPr>
            <a:xfrm>
              <a:off x="7391520" y="3581280"/>
              <a:ext cx="75960" cy="76320"/>
            </a:xfrm>
            <a:prstGeom prst="flowChartConnector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543800" y="3581280"/>
              <a:ext cx="75600" cy="76320"/>
            </a:xfrm>
            <a:prstGeom prst="flowChartConnector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7696080" y="3581280"/>
              <a:ext cx="75960" cy="76320"/>
            </a:xfrm>
            <a:prstGeom prst="flowChartConnector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3" name=""/>
          <p:cNvGrpSpPr/>
          <p:nvPr/>
        </p:nvGrpSpPr>
        <p:grpSpPr>
          <a:xfrm>
            <a:off x="7391520" y="5181480"/>
            <a:ext cx="380520" cy="76320"/>
            <a:chOff x="7391520" y="5181480"/>
            <a:chExt cx="380520" cy="76320"/>
          </a:xfrm>
        </p:grpSpPr>
        <p:sp>
          <p:nvSpPr>
            <p:cNvPr id="284" name=""/>
            <p:cNvSpPr/>
            <p:nvPr/>
          </p:nvSpPr>
          <p:spPr>
            <a:xfrm>
              <a:off x="7391520" y="5181480"/>
              <a:ext cx="75960" cy="76320"/>
            </a:xfrm>
            <a:prstGeom prst="flowChartConnector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7543800" y="5181480"/>
              <a:ext cx="75600" cy="76320"/>
            </a:xfrm>
            <a:prstGeom prst="flowChartConnector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7696080" y="5181480"/>
              <a:ext cx="75960" cy="76320"/>
            </a:xfrm>
            <a:prstGeom prst="flowChartConnector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057400" y="5563080"/>
            <a:ext cx="76320" cy="380520"/>
            <a:chOff x="2057400" y="5563080"/>
            <a:chExt cx="76320" cy="380520"/>
          </a:xfrm>
        </p:grpSpPr>
        <p:sp>
          <p:nvSpPr>
            <p:cNvPr id="288" name=""/>
            <p:cNvSpPr/>
            <p:nvPr/>
          </p:nvSpPr>
          <p:spPr>
            <a:xfrm rot="16200000">
              <a:off x="2057400" y="5867280"/>
              <a:ext cx="75960" cy="76320"/>
            </a:xfrm>
            <a:prstGeom prst="flowChartConnector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rot="16200000">
              <a:off x="2057760" y="5715360"/>
              <a:ext cx="75600" cy="76320"/>
            </a:xfrm>
            <a:prstGeom prst="flowChartConnector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rot="16200000">
              <a:off x="2057400" y="5562720"/>
              <a:ext cx="75960" cy="76320"/>
            </a:xfrm>
            <a:prstGeom prst="flowChartConnector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berration Correc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78941-6B72-4E96-9DF1-95A8123DC9C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ow-Sum 2D Corr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2" name=""/>
          <p:cNvGrpSpPr/>
          <p:nvPr/>
        </p:nvGrpSpPr>
        <p:grpSpPr>
          <a:xfrm>
            <a:off x="2362320" y="1905120"/>
            <a:ext cx="5333400" cy="368280"/>
            <a:chOff x="2362320" y="1905120"/>
            <a:chExt cx="5333400" cy="368280"/>
          </a:xfrm>
        </p:grpSpPr>
        <p:sp>
          <p:nvSpPr>
            <p:cNvPr id="293" name=""/>
            <p:cNvSpPr/>
            <p:nvPr/>
          </p:nvSpPr>
          <p:spPr>
            <a:xfrm>
              <a:off x="2362320" y="1905120"/>
              <a:ext cx="68544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Times New Roman"/>
                </a:rPr>
                <a:t>(1,1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010280" y="1905120"/>
              <a:ext cx="68544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Times New Roman"/>
                </a:rPr>
                <a:t>(1,3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724280" y="1905120"/>
              <a:ext cx="68544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Times New Roman"/>
                </a:rPr>
                <a:t>(1,2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4960" y="1905120"/>
              <a:ext cx="68544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or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790960" y="1905120"/>
              <a:ext cx="68544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or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2362320" y="5029200"/>
            <a:ext cx="5333400" cy="368280"/>
            <a:chOff x="2362320" y="5029200"/>
            <a:chExt cx="5333400" cy="368280"/>
          </a:xfrm>
        </p:grpSpPr>
        <p:sp>
          <p:nvSpPr>
            <p:cNvPr id="299" name=""/>
            <p:cNvSpPr/>
            <p:nvPr/>
          </p:nvSpPr>
          <p:spPr>
            <a:xfrm>
              <a:off x="2362320" y="5029200"/>
              <a:ext cx="68544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Times New Roman"/>
                </a:rPr>
                <a:t>(3,1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010280" y="5029200"/>
              <a:ext cx="68544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Times New Roman"/>
                </a:rPr>
                <a:t>(3,3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724280" y="5029200"/>
              <a:ext cx="68544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Times New Roman"/>
                </a:rPr>
                <a:t>(3,2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504960" y="5029200"/>
              <a:ext cx="68544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or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5790960" y="5029200"/>
              <a:ext cx="68544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or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4" name=""/>
          <p:cNvGrpSpPr/>
          <p:nvPr/>
        </p:nvGrpSpPr>
        <p:grpSpPr>
          <a:xfrm>
            <a:off x="2362320" y="3429000"/>
            <a:ext cx="5333400" cy="368280"/>
            <a:chOff x="2362320" y="3429000"/>
            <a:chExt cx="5333400" cy="368280"/>
          </a:xfrm>
        </p:grpSpPr>
        <p:sp>
          <p:nvSpPr>
            <p:cNvPr id="305" name=""/>
            <p:cNvSpPr/>
            <p:nvPr/>
          </p:nvSpPr>
          <p:spPr>
            <a:xfrm>
              <a:off x="2362320" y="3429000"/>
              <a:ext cx="68544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Times New Roman"/>
                </a:rPr>
                <a:t>(2,1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010280" y="3429000"/>
              <a:ext cx="68544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Times New Roman"/>
                </a:rPr>
                <a:t>(2,3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3429000"/>
              <a:ext cx="68544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Times New Roman"/>
                </a:rPr>
                <a:t>(2,2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3504960" y="3429000"/>
              <a:ext cx="68544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or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790960" y="3429000"/>
              <a:ext cx="68544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or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0" name=""/>
          <p:cNvSpPr/>
          <p:nvPr/>
        </p:nvSpPr>
        <p:spPr>
          <a:xfrm>
            <a:off x="1385280" y="2590920"/>
            <a:ext cx="4546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r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385280" y="4114800"/>
            <a:ext cx="4546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r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7924680" y="2057400"/>
            <a:ext cx="381240" cy="76320"/>
            <a:chOff x="7924680" y="2057400"/>
            <a:chExt cx="381240" cy="76320"/>
          </a:xfrm>
        </p:grpSpPr>
        <p:sp>
          <p:nvSpPr>
            <p:cNvPr id="313" name=""/>
            <p:cNvSpPr/>
            <p:nvPr/>
          </p:nvSpPr>
          <p:spPr>
            <a:xfrm>
              <a:off x="7924680" y="2057400"/>
              <a:ext cx="76320" cy="76320"/>
            </a:xfrm>
            <a:prstGeom prst="flowChartConnector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8077320" y="2057400"/>
              <a:ext cx="75960" cy="76320"/>
            </a:xfrm>
            <a:prstGeom prst="flowChartConnector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8229600" y="2057400"/>
              <a:ext cx="76320" cy="76320"/>
            </a:xfrm>
            <a:prstGeom prst="flowChartConnector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6" name=""/>
          <p:cNvGrpSpPr/>
          <p:nvPr/>
        </p:nvGrpSpPr>
        <p:grpSpPr>
          <a:xfrm>
            <a:off x="7924680" y="3581280"/>
            <a:ext cx="381240" cy="76320"/>
            <a:chOff x="7924680" y="3581280"/>
            <a:chExt cx="381240" cy="76320"/>
          </a:xfrm>
        </p:grpSpPr>
        <p:sp>
          <p:nvSpPr>
            <p:cNvPr id="317" name=""/>
            <p:cNvSpPr/>
            <p:nvPr/>
          </p:nvSpPr>
          <p:spPr>
            <a:xfrm>
              <a:off x="7924680" y="3581280"/>
              <a:ext cx="76320" cy="76320"/>
            </a:xfrm>
            <a:prstGeom prst="flowChartConnector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8077320" y="3581280"/>
              <a:ext cx="75960" cy="76320"/>
            </a:xfrm>
            <a:prstGeom prst="flowChartConnector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8229600" y="3581280"/>
              <a:ext cx="76320" cy="76320"/>
            </a:xfrm>
            <a:prstGeom prst="flowChartConnector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"/>
          <p:cNvGrpSpPr/>
          <p:nvPr/>
        </p:nvGrpSpPr>
        <p:grpSpPr>
          <a:xfrm>
            <a:off x="7924680" y="5181480"/>
            <a:ext cx="381240" cy="76320"/>
            <a:chOff x="7924680" y="5181480"/>
            <a:chExt cx="381240" cy="76320"/>
          </a:xfrm>
        </p:grpSpPr>
        <p:sp>
          <p:nvSpPr>
            <p:cNvPr id="321" name=""/>
            <p:cNvSpPr/>
            <p:nvPr/>
          </p:nvSpPr>
          <p:spPr>
            <a:xfrm>
              <a:off x="7924680" y="5181480"/>
              <a:ext cx="76320" cy="76320"/>
            </a:xfrm>
            <a:prstGeom prst="flowChartConnector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8077320" y="5181480"/>
              <a:ext cx="75960" cy="76320"/>
            </a:xfrm>
            <a:prstGeom prst="flowChartConnector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8229600" y="5181480"/>
              <a:ext cx="76320" cy="76320"/>
            </a:xfrm>
            <a:prstGeom prst="flowChartConnector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4" name=""/>
          <p:cNvGrpSpPr/>
          <p:nvPr/>
        </p:nvGrpSpPr>
        <p:grpSpPr>
          <a:xfrm>
            <a:off x="1600200" y="5715360"/>
            <a:ext cx="76320" cy="380520"/>
            <a:chOff x="1600200" y="5715360"/>
            <a:chExt cx="76320" cy="380520"/>
          </a:xfrm>
        </p:grpSpPr>
        <p:sp>
          <p:nvSpPr>
            <p:cNvPr id="325" name=""/>
            <p:cNvSpPr/>
            <p:nvPr/>
          </p:nvSpPr>
          <p:spPr>
            <a:xfrm rot="16200000">
              <a:off x="1600200" y="6019560"/>
              <a:ext cx="75960" cy="76320"/>
            </a:xfrm>
            <a:prstGeom prst="flowChartConnector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rot="16200000">
              <a:off x="1600560" y="5867640"/>
              <a:ext cx="75600" cy="76320"/>
            </a:xfrm>
            <a:prstGeom prst="flowChartConnector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rot="16200000">
              <a:off x="1600200" y="5715000"/>
              <a:ext cx="75960" cy="76320"/>
            </a:xfrm>
            <a:prstGeom prst="flowChartConnector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8" name=""/>
          <p:cNvSpPr/>
          <p:nvPr/>
        </p:nvSpPr>
        <p:spPr>
          <a:xfrm>
            <a:off x="1828800" y="1981080"/>
            <a:ext cx="304920" cy="304920"/>
          </a:xfrm>
          <a:prstGeom prst="flowChar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863720" y="3500280"/>
            <a:ext cx="304920" cy="304920"/>
          </a:xfrm>
          <a:prstGeom prst="flowChar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863720" y="5105520"/>
            <a:ext cx="304920" cy="304560"/>
          </a:xfrm>
          <a:prstGeom prst="flowChar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1" name=""/>
          <p:cNvGrpSpPr/>
          <p:nvPr/>
        </p:nvGrpSpPr>
        <p:grpSpPr>
          <a:xfrm>
            <a:off x="1872360" y="1552320"/>
            <a:ext cx="5480640" cy="505080"/>
            <a:chOff x="1872360" y="1552320"/>
            <a:chExt cx="5480640" cy="505080"/>
          </a:xfrm>
        </p:grpSpPr>
        <p:sp>
          <p:nvSpPr>
            <p:cNvPr id="332" name=""/>
            <p:cNvSpPr/>
            <p:nvPr/>
          </p:nvSpPr>
          <p:spPr>
            <a:xfrm>
              <a:off x="3048120" y="20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4191120" y="2057400"/>
              <a:ext cx="53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410080" y="205740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6477120" y="2057400"/>
              <a:ext cx="53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36" name=""/>
            <p:cNvCxnSpPr>
              <a:stCxn id="293" idx="0"/>
              <a:endCxn id="328" idx="7"/>
            </p:cNvCxnSpPr>
            <p:nvPr/>
          </p:nvCxnSpPr>
          <p:spPr>
            <a:xfrm rot="5400000">
              <a:off x="2336040" y="1656360"/>
              <a:ext cx="121320" cy="616680"/>
            </a:xfrm>
            <a:prstGeom prst="bentConnector3">
              <a:avLst>
                <a:gd name="adj1" fmla="val -64285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37" name=""/>
            <p:cNvCxnSpPr>
              <a:stCxn id="295" idx="0"/>
              <a:endCxn id="328" idx="0"/>
            </p:cNvCxnSpPr>
            <p:nvPr/>
          </p:nvCxnSpPr>
          <p:spPr>
            <a:xfrm rot="5400000">
              <a:off x="3485520" y="398880"/>
              <a:ext cx="76680" cy="3087000"/>
            </a:xfrm>
            <a:prstGeom prst="bentConnector3">
              <a:avLst>
                <a:gd name="adj1" fmla="val -300000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38" name=""/>
            <p:cNvCxnSpPr>
              <a:stCxn id="294" idx="0"/>
              <a:endCxn id="328" idx="1"/>
            </p:cNvCxnSpPr>
            <p:nvPr/>
          </p:nvCxnSpPr>
          <p:spPr>
            <a:xfrm rot="5400000">
              <a:off x="4552200" y="-775800"/>
              <a:ext cx="121320" cy="5481000"/>
            </a:xfrm>
            <a:prstGeom prst="bentConnector3">
              <a:avLst>
                <a:gd name="adj1" fmla="val -290773"/>
              </a:avLst>
            </a:prstGeom>
            <a:ln w="9360">
              <a:solidFill>
                <a:srgbClr val="000000"/>
              </a:solidFill>
              <a:miter/>
            </a:ln>
          </p:spPr>
        </p:cxnSp>
      </p:grpSp>
      <p:grpSp>
        <p:nvGrpSpPr>
          <p:cNvPr id="339" name=""/>
          <p:cNvGrpSpPr/>
          <p:nvPr/>
        </p:nvGrpSpPr>
        <p:grpSpPr>
          <a:xfrm>
            <a:off x="1904760" y="3076200"/>
            <a:ext cx="5480280" cy="505080"/>
            <a:chOff x="1904760" y="3076200"/>
            <a:chExt cx="5480280" cy="505080"/>
          </a:xfrm>
        </p:grpSpPr>
        <p:sp>
          <p:nvSpPr>
            <p:cNvPr id="340" name=""/>
            <p:cNvSpPr/>
            <p:nvPr/>
          </p:nvSpPr>
          <p:spPr>
            <a:xfrm>
              <a:off x="3079800" y="3581280"/>
              <a:ext cx="456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222800" y="3581280"/>
              <a:ext cx="532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441760" y="35812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508800" y="3581280"/>
              <a:ext cx="532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44" name=""/>
            <p:cNvCxnSpPr/>
            <p:nvPr/>
          </p:nvCxnSpPr>
          <p:spPr>
            <a:xfrm rot="5400000">
              <a:off x="2368080" y="3180600"/>
              <a:ext cx="121320" cy="615960"/>
            </a:xfrm>
            <a:prstGeom prst="bentConnector3">
              <a:avLst>
                <a:gd name="adj1" fmla="val -64285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45" name=""/>
            <p:cNvCxnSpPr/>
            <p:nvPr/>
          </p:nvCxnSpPr>
          <p:spPr>
            <a:xfrm rot="5400000">
              <a:off x="3517200" y="1923120"/>
              <a:ext cx="76680" cy="3086640"/>
            </a:xfrm>
            <a:prstGeom prst="bentConnector3">
              <a:avLst>
                <a:gd name="adj1" fmla="val -300000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46" name=""/>
            <p:cNvCxnSpPr/>
            <p:nvPr/>
          </p:nvCxnSpPr>
          <p:spPr>
            <a:xfrm rot="5400000">
              <a:off x="4584240" y="748440"/>
              <a:ext cx="121320" cy="5480640"/>
            </a:xfrm>
            <a:prstGeom prst="bentConnector3">
              <a:avLst>
                <a:gd name="adj1" fmla="val -290773"/>
              </a:avLst>
            </a:prstGeom>
            <a:ln w="9360">
              <a:solidFill>
                <a:srgbClr val="000000"/>
              </a:solidFill>
              <a:miter/>
            </a:ln>
          </p:spPr>
        </p:cxnSp>
      </p:grpSp>
      <p:grpSp>
        <p:nvGrpSpPr>
          <p:cNvPr id="347" name=""/>
          <p:cNvGrpSpPr/>
          <p:nvPr/>
        </p:nvGrpSpPr>
        <p:grpSpPr>
          <a:xfrm>
            <a:off x="1904760" y="4676400"/>
            <a:ext cx="5480280" cy="505080"/>
            <a:chOff x="1904760" y="4676400"/>
            <a:chExt cx="5480280" cy="505080"/>
          </a:xfrm>
        </p:grpSpPr>
        <p:sp>
          <p:nvSpPr>
            <p:cNvPr id="348" name=""/>
            <p:cNvSpPr/>
            <p:nvPr/>
          </p:nvSpPr>
          <p:spPr>
            <a:xfrm>
              <a:off x="3079800" y="5181480"/>
              <a:ext cx="456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4222800" y="5181480"/>
              <a:ext cx="532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5441760" y="51814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6508800" y="5181480"/>
              <a:ext cx="532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52" name=""/>
            <p:cNvCxnSpPr/>
            <p:nvPr/>
          </p:nvCxnSpPr>
          <p:spPr>
            <a:xfrm rot="5400000">
              <a:off x="2368080" y="4780800"/>
              <a:ext cx="121320" cy="615960"/>
            </a:xfrm>
            <a:prstGeom prst="bentConnector3">
              <a:avLst>
                <a:gd name="adj1" fmla="val -64285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53" name=""/>
            <p:cNvCxnSpPr/>
            <p:nvPr/>
          </p:nvCxnSpPr>
          <p:spPr>
            <a:xfrm rot="5400000">
              <a:off x="3517200" y="3523320"/>
              <a:ext cx="76680" cy="3086640"/>
            </a:xfrm>
            <a:prstGeom prst="bentConnector3">
              <a:avLst>
                <a:gd name="adj1" fmla="val -300000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54" name=""/>
            <p:cNvCxnSpPr/>
            <p:nvPr/>
          </p:nvCxnSpPr>
          <p:spPr>
            <a:xfrm rot="5400000">
              <a:off x="4584240" y="2348640"/>
              <a:ext cx="121320" cy="5480640"/>
            </a:xfrm>
            <a:prstGeom prst="bentConnector3">
              <a:avLst>
                <a:gd name="adj1" fmla="val -290773"/>
              </a:avLst>
            </a:prstGeom>
            <a:ln w="9360">
              <a:solidFill>
                <a:srgbClr val="000000"/>
              </a:solidFill>
              <a:miter/>
            </a:ln>
          </p:spPr>
        </p:cxnSp>
      </p:grpSp>
      <p:cxnSp>
        <p:nvCxnSpPr>
          <p:cNvPr id="355" name=""/>
          <p:cNvCxnSpPr>
            <a:stCxn id="328" idx="2"/>
            <a:endCxn id="310" idx="0"/>
          </p:cNvCxnSpPr>
          <p:nvPr/>
        </p:nvCxnSpPr>
        <p:spPr>
          <a:xfrm flipV="1" rot="10800000">
            <a:off x="1605960" y="2133360"/>
            <a:ext cx="222840" cy="457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56" name=""/>
          <p:cNvSpPr/>
          <p:nvPr/>
        </p:nvSpPr>
        <p:spPr>
          <a:xfrm>
            <a:off x="1600200" y="32004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599840" y="36576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600200" y="472428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1599840" y="5257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berration Correc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17754-DE19-4678-804E-D0181751400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rrelation Based Method: Misc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though conceptually simple, correlation based method requires extensive computa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mited human studies have shown its efficacy, but the performance is not consistent clinical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D arrays are required to improve the 3D resolu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berration Corre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77946-EEE9-4F66-8A41-77DC1122725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und Velocity Inhomogenei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685800" y="2133720"/>
            <a:ext cx="7848360" cy="3276360"/>
            <a:chOff x="685800" y="2133720"/>
            <a:chExt cx="7848360" cy="3276360"/>
          </a:xfrm>
        </p:grpSpPr>
        <p:sp>
          <p:nvSpPr>
            <p:cNvPr id="46" name=""/>
            <p:cNvSpPr/>
            <p:nvPr/>
          </p:nvSpPr>
          <p:spPr>
            <a:xfrm>
              <a:off x="685800" y="4863960"/>
              <a:ext cx="2478240" cy="54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ransducer arra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751120" y="4681800"/>
              <a:ext cx="2064960" cy="545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v1  v2   v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6262560" y="3771720"/>
              <a:ext cx="2271600" cy="72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oint of interes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131560" y="2861640"/>
              <a:ext cx="619560" cy="1820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957760" y="2861640"/>
              <a:ext cx="206280" cy="1820160"/>
            </a:xfrm>
            <a:custGeom>
              <a:avLst/>
              <a:gdLst/>
              <a:ahLst/>
              <a:rect l="l" t="t" r="r" b="b"/>
              <a:pathLst>
                <a:path w="180" h="1800">
                  <a:moveTo>
                    <a:pt x="180" y="0"/>
                  </a:moveTo>
                  <a:cubicBezTo>
                    <a:pt x="90" y="120"/>
                    <a:pt x="0" y="240"/>
                    <a:pt x="0" y="360"/>
                  </a:cubicBezTo>
                  <a:cubicBezTo>
                    <a:pt x="0" y="480"/>
                    <a:pt x="180" y="540"/>
                    <a:pt x="180" y="720"/>
                  </a:cubicBezTo>
                  <a:cubicBezTo>
                    <a:pt x="180" y="900"/>
                    <a:pt x="0" y="1260"/>
                    <a:pt x="0" y="1440"/>
                  </a:cubicBezTo>
                  <a:cubicBezTo>
                    <a:pt x="0" y="1620"/>
                    <a:pt x="150" y="1740"/>
                    <a:pt x="180" y="18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370680" y="2861640"/>
              <a:ext cx="240840" cy="1820160"/>
            </a:xfrm>
            <a:custGeom>
              <a:avLst/>
              <a:gdLst/>
              <a:ahLst/>
              <a:rect l="l" t="t" r="r" b="b"/>
              <a:pathLst>
                <a:path w="210" h="1800">
                  <a:moveTo>
                    <a:pt x="0" y="0"/>
                  </a:moveTo>
                  <a:cubicBezTo>
                    <a:pt x="75" y="195"/>
                    <a:pt x="150" y="390"/>
                    <a:pt x="180" y="540"/>
                  </a:cubicBezTo>
                  <a:cubicBezTo>
                    <a:pt x="210" y="690"/>
                    <a:pt x="210" y="780"/>
                    <a:pt x="180" y="900"/>
                  </a:cubicBezTo>
                  <a:cubicBezTo>
                    <a:pt x="150" y="1020"/>
                    <a:pt x="0" y="1110"/>
                    <a:pt x="0" y="1260"/>
                  </a:cubicBezTo>
                  <a:cubicBezTo>
                    <a:pt x="0" y="1410"/>
                    <a:pt x="150" y="1710"/>
                    <a:pt x="180" y="18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468840" y="3704040"/>
              <a:ext cx="206280" cy="181800"/>
            </a:xfrm>
            <a:prstGeom prst="octagon">
              <a:avLst>
                <a:gd name="adj" fmla="val 29287"/>
              </a:avLst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 flipV="1">
              <a:off x="2751120" y="2861640"/>
              <a:ext cx="3717360" cy="910080"/>
            </a:xfrm>
            <a:prstGeom prst="line">
              <a:avLst/>
            </a:prstGeom>
            <a:ln cap="rnd" w="1260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 flipV="1">
              <a:off x="2751120" y="3225960"/>
              <a:ext cx="3717360" cy="54576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flipH="1">
              <a:off x="2751120" y="3771720"/>
              <a:ext cx="371736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H="1">
              <a:off x="2751120" y="3771720"/>
              <a:ext cx="3717360" cy="36360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2751120" y="3771720"/>
              <a:ext cx="3717360" cy="910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544480" y="2133720"/>
              <a:ext cx="1652040" cy="545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ody wal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403520" y="2133720"/>
              <a:ext cx="1652040" cy="545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viscer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berration Correc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E53C8-6EEF-4BD1-A9BC-F5AFA5068F2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placed Phase Screen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und velocity inhomogeneities may be modeled as a phase screen at some distance from the transducer to account for the distributed velocity varia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displaced phase screen not only produces time delay errors, it also distorts ultrasonic wavefro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berration Corre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7510C-C225-4503-AD61-F7B8C2AE083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placed Phase Screen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358092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ived signals need to be “back-propagated” to an “optimal” distance by using the angular spectrum metho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“optimal” distance is determined by using a similarity fa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6" name=""/>
          <p:cNvGrpSpPr/>
          <p:nvPr/>
        </p:nvGrpSpPr>
        <p:grpSpPr>
          <a:xfrm>
            <a:off x="3048120" y="1904760"/>
            <a:ext cx="1981080" cy="1511640"/>
            <a:chOff x="3048120" y="1904760"/>
            <a:chExt cx="1981080" cy="1511640"/>
          </a:xfrm>
        </p:grpSpPr>
        <p:sp>
          <p:nvSpPr>
            <p:cNvPr id="367" name=""/>
            <p:cNvSpPr/>
            <p:nvPr/>
          </p:nvSpPr>
          <p:spPr>
            <a:xfrm>
              <a:off x="4419720" y="1905120"/>
              <a:ext cx="380880" cy="11430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025880" y="1905120"/>
              <a:ext cx="165240" cy="1066680"/>
            </a:xfrm>
            <a:custGeom>
              <a:avLst/>
              <a:gdLst/>
              <a:ahLst/>
              <a:rect l="l" t="t" r="r" b="b"/>
              <a:pathLst>
                <a:path w="104" h="672">
                  <a:moveTo>
                    <a:pt x="104" y="0"/>
                  </a:moveTo>
                  <a:cubicBezTo>
                    <a:pt x="60" y="40"/>
                    <a:pt x="16" y="80"/>
                    <a:pt x="8" y="144"/>
                  </a:cubicBezTo>
                  <a:cubicBezTo>
                    <a:pt x="0" y="208"/>
                    <a:pt x="56" y="328"/>
                    <a:pt x="56" y="384"/>
                  </a:cubicBezTo>
                  <a:cubicBezTo>
                    <a:pt x="56" y="440"/>
                    <a:pt x="0" y="432"/>
                    <a:pt x="8" y="480"/>
                  </a:cubicBezTo>
                  <a:cubicBezTo>
                    <a:pt x="16" y="528"/>
                    <a:pt x="88" y="640"/>
                    <a:pt x="104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3048120" y="1904760"/>
              <a:ext cx="114300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048120" y="2514600"/>
              <a:ext cx="11430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4191120" y="1905120"/>
              <a:ext cx="88920" cy="1066680"/>
            </a:xfrm>
            <a:custGeom>
              <a:avLst/>
              <a:gdLst/>
              <a:ahLst/>
              <a:rect l="l" t="t" r="r" b="b"/>
              <a:pathLst>
                <a:path w="56" h="672">
                  <a:moveTo>
                    <a:pt x="48" y="0"/>
                  </a:moveTo>
                  <a:cubicBezTo>
                    <a:pt x="52" y="60"/>
                    <a:pt x="56" y="120"/>
                    <a:pt x="48" y="192"/>
                  </a:cubicBezTo>
                  <a:cubicBezTo>
                    <a:pt x="40" y="264"/>
                    <a:pt x="0" y="352"/>
                    <a:pt x="0" y="432"/>
                  </a:cubicBezTo>
                  <a:cubicBezTo>
                    <a:pt x="0" y="512"/>
                    <a:pt x="24" y="592"/>
                    <a:pt x="4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581280" y="304812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hase scre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berration Corre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09BA1-4CA4-408E-A8ED-D4F7A6BC128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placed Phase Screen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fter the signals are back-propagated, correlation technique is then used to find errors in arrival ti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extremely computationally extensive, almost impossible to implement in real-time using current technolog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berration Corre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29DF3-07FA-49C7-B643-9F4F9CB43E0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avefront Distor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asurements on abdominal walls, breasts and chest walls have shown two-dimensional distor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distortion includes time delay errors and amplitude errors (resulting from wavefront distortion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berration Corre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7F22E-A3F0-4C5B-B89E-4BEBA2883D1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me Reversal Mirr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ue to the reciprocal nature of pulse-echo imaging, perfect focusing can be achieved by transmitting a pulse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(T-t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which is the temporal reverse of a previously received signal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(t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is essentially a matched filter techniqu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berration Corre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31694-8FF9-4EAE-BB2F-9B9F3C3AE30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me Reversal Mirr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85800" y="38095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point reflector is required, thus making it non-ideal for diffuse scatter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can be used in lithotripsy for automatic focus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038480" y="2286000"/>
            <a:ext cx="228600" cy="7621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3200760" y="2285640"/>
            <a:ext cx="456480" cy="761760"/>
            <a:chOff x="3200760" y="2285640"/>
            <a:chExt cx="456480" cy="761760"/>
          </a:xfrm>
        </p:grpSpPr>
        <p:sp>
          <p:nvSpPr>
            <p:cNvPr id="383" name=""/>
            <p:cNvSpPr/>
            <p:nvPr/>
          </p:nvSpPr>
          <p:spPr>
            <a:xfrm>
              <a:off x="3200760" y="2286000"/>
              <a:ext cx="456480" cy="761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 flipV="1">
              <a:off x="3200760" y="2285280"/>
              <a:ext cx="456480" cy="761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5" name=""/>
          <p:cNvSpPr/>
          <p:nvPr/>
        </p:nvSpPr>
        <p:spPr>
          <a:xfrm flipH="1">
            <a:off x="2590920" y="2286000"/>
            <a:ext cx="83808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590920" y="2666880"/>
            <a:ext cx="83808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797280" y="2286000"/>
            <a:ext cx="241200" cy="762120"/>
          </a:xfrm>
          <a:custGeom>
            <a:avLst/>
            <a:gdLst/>
            <a:ahLst/>
            <a:rect l="l" t="t" r="r" b="b"/>
            <a:pathLst>
              <a:path w="152" h="480">
                <a:moveTo>
                  <a:pt x="152" y="0"/>
                </a:moveTo>
                <a:cubicBezTo>
                  <a:pt x="84" y="68"/>
                  <a:pt x="16" y="136"/>
                  <a:pt x="8" y="192"/>
                </a:cubicBezTo>
                <a:cubicBezTo>
                  <a:pt x="0" y="248"/>
                  <a:pt x="96" y="296"/>
                  <a:pt x="104" y="336"/>
                </a:cubicBezTo>
                <a:cubicBezTo>
                  <a:pt x="112" y="376"/>
                  <a:pt x="48" y="408"/>
                  <a:pt x="56" y="432"/>
                </a:cubicBezTo>
                <a:cubicBezTo>
                  <a:pt x="64" y="456"/>
                  <a:pt x="136" y="472"/>
                  <a:pt x="152" y="4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 flipH="1">
            <a:off x="5180760" y="2286000"/>
            <a:ext cx="241560" cy="762120"/>
          </a:xfrm>
          <a:custGeom>
            <a:avLst/>
            <a:gdLst/>
            <a:ahLst/>
            <a:rect l="l" t="t" r="r" b="b"/>
            <a:pathLst>
              <a:path w="152" h="480">
                <a:moveTo>
                  <a:pt x="152" y="0"/>
                </a:moveTo>
                <a:cubicBezTo>
                  <a:pt x="84" y="68"/>
                  <a:pt x="16" y="136"/>
                  <a:pt x="8" y="192"/>
                </a:cubicBezTo>
                <a:cubicBezTo>
                  <a:pt x="0" y="248"/>
                  <a:pt x="96" y="296"/>
                  <a:pt x="104" y="336"/>
                </a:cubicBezTo>
                <a:cubicBezTo>
                  <a:pt x="112" y="376"/>
                  <a:pt x="48" y="408"/>
                  <a:pt x="56" y="432"/>
                </a:cubicBezTo>
                <a:cubicBezTo>
                  <a:pt x="64" y="456"/>
                  <a:pt x="136" y="472"/>
                  <a:pt x="152" y="4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9" name=""/>
          <p:cNvGrpSpPr/>
          <p:nvPr/>
        </p:nvGrpSpPr>
        <p:grpSpPr>
          <a:xfrm>
            <a:off x="4572000" y="2285640"/>
            <a:ext cx="456480" cy="761760"/>
            <a:chOff x="4572000" y="2285640"/>
            <a:chExt cx="456480" cy="761760"/>
          </a:xfrm>
        </p:grpSpPr>
        <p:sp>
          <p:nvSpPr>
            <p:cNvPr id="390" name=""/>
            <p:cNvSpPr/>
            <p:nvPr/>
          </p:nvSpPr>
          <p:spPr>
            <a:xfrm flipH="1">
              <a:off x="4572000" y="2286000"/>
              <a:ext cx="456480" cy="761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 flipH="1" flipV="1">
              <a:off x="4572000" y="2285280"/>
              <a:ext cx="456480" cy="761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2" name=""/>
          <p:cNvSpPr/>
          <p:nvPr/>
        </p:nvSpPr>
        <p:spPr>
          <a:xfrm>
            <a:off x="4419720" y="19051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 revers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2666880" y="198108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ometric del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505320" y="2971800"/>
            <a:ext cx="914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elocity vari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6400800" y="23623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15000" y="205740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erfect foc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berration Corre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02B1D-A378-437D-8A16-AE70618341F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anslating Transmit Aper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rrelation between signals from a speckle target is determined by the van Cittert Zernike theor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the presence of phase aberrations, correlation may be further reduc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ternative transmit-receive aperture arrangement can be used to increase correl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berration Corre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CC3D0-06AA-43DA-B904-2FF8BD39CA23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anslating Transmit Aper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5800" y="380988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the absence of phase aberrations, two sets of received signals separated by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 is perfectly correlated if the transmit apertures are displaced by -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962520" y="2743200"/>
            <a:ext cx="380880" cy="30492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724280" y="2743200"/>
            <a:ext cx="381240" cy="30492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19720" y="1828800"/>
            <a:ext cx="304560" cy="304920"/>
          </a:xfrm>
          <a:custGeom>
            <a:avLst/>
            <a:gdLst/>
            <a:ahLst/>
            <a:rect l="l" t="t" r="r" b="b"/>
            <a:pathLst>
              <a:path w="192" h="192">
                <a:moveTo>
                  <a:pt x="48" y="144"/>
                </a:moveTo>
                <a:lnTo>
                  <a:pt x="0" y="96"/>
                </a:lnTo>
                <a:lnTo>
                  <a:pt x="48" y="0"/>
                </a:lnTo>
                <a:lnTo>
                  <a:pt x="144" y="48"/>
                </a:lnTo>
                <a:lnTo>
                  <a:pt x="192" y="144"/>
                </a:lnTo>
                <a:lnTo>
                  <a:pt x="96" y="192"/>
                </a:lnTo>
                <a:lnTo>
                  <a:pt x="48" y="144"/>
                </a:lnTo>
                <a:close/>
              </a:path>
            </a:pathLst>
          </a:custGeom>
          <a:solidFill>
            <a:srgbClr val="96969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 flipV="1">
            <a:off x="4191120" y="2133360"/>
            <a:ext cx="3808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572000" y="2133720"/>
            <a:ext cx="3808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505320" y="31240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1/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572000" y="31240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1/T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berration Corre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E6536-90FF-4CC0-A0A0-E07B9973E746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hase Conjug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200400" y="1919160"/>
            <a:ext cx="380880" cy="1143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806560" y="1919160"/>
            <a:ext cx="165240" cy="1067040"/>
          </a:xfrm>
          <a:custGeom>
            <a:avLst/>
            <a:gdLst/>
            <a:ahLst/>
            <a:rect l="l" t="t" r="r" b="b"/>
            <a:pathLst>
              <a:path w="104" h="672">
                <a:moveTo>
                  <a:pt x="104" y="0"/>
                </a:moveTo>
                <a:cubicBezTo>
                  <a:pt x="60" y="40"/>
                  <a:pt x="16" y="80"/>
                  <a:pt x="8" y="144"/>
                </a:cubicBezTo>
                <a:cubicBezTo>
                  <a:pt x="0" y="208"/>
                  <a:pt x="56" y="328"/>
                  <a:pt x="56" y="384"/>
                </a:cubicBezTo>
                <a:cubicBezTo>
                  <a:pt x="56" y="440"/>
                  <a:pt x="0" y="432"/>
                  <a:pt x="8" y="480"/>
                </a:cubicBezTo>
                <a:cubicBezTo>
                  <a:pt x="16" y="528"/>
                  <a:pt x="88" y="640"/>
                  <a:pt x="104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V="1">
            <a:off x="1828800" y="1919160"/>
            <a:ext cx="11430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1828800" y="25290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087720" y="1905120"/>
            <a:ext cx="88920" cy="1066680"/>
          </a:xfrm>
          <a:custGeom>
            <a:avLst/>
            <a:gdLst/>
            <a:ahLst/>
            <a:rect l="l" t="t" r="r" b="b"/>
            <a:pathLst>
              <a:path w="56" h="672">
                <a:moveTo>
                  <a:pt x="48" y="0"/>
                </a:moveTo>
                <a:cubicBezTo>
                  <a:pt x="52" y="60"/>
                  <a:pt x="56" y="120"/>
                  <a:pt x="48" y="192"/>
                </a:cubicBezTo>
                <a:cubicBezTo>
                  <a:pt x="40" y="264"/>
                  <a:pt x="0" y="352"/>
                  <a:pt x="0" y="432"/>
                </a:cubicBezTo>
                <a:cubicBezTo>
                  <a:pt x="0" y="512"/>
                  <a:pt x="24" y="592"/>
                  <a:pt x="48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905120" y="3062160"/>
            <a:ext cx="190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hase screen at face of transduc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5029200" y="1918800"/>
            <a:ext cx="1981080" cy="1785960"/>
            <a:chOff x="5029200" y="1918800"/>
            <a:chExt cx="1981080" cy="1785960"/>
          </a:xfrm>
        </p:grpSpPr>
        <p:sp>
          <p:nvSpPr>
            <p:cNvPr id="416" name=""/>
            <p:cNvSpPr/>
            <p:nvPr/>
          </p:nvSpPr>
          <p:spPr>
            <a:xfrm>
              <a:off x="6400800" y="1919160"/>
              <a:ext cx="380880" cy="1143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6006960" y="1919160"/>
              <a:ext cx="165240" cy="1066680"/>
            </a:xfrm>
            <a:custGeom>
              <a:avLst/>
              <a:gdLst/>
              <a:ahLst/>
              <a:rect l="l" t="t" r="r" b="b"/>
              <a:pathLst>
                <a:path w="104" h="672">
                  <a:moveTo>
                    <a:pt x="104" y="0"/>
                  </a:moveTo>
                  <a:cubicBezTo>
                    <a:pt x="60" y="40"/>
                    <a:pt x="16" y="80"/>
                    <a:pt x="8" y="144"/>
                  </a:cubicBezTo>
                  <a:cubicBezTo>
                    <a:pt x="0" y="208"/>
                    <a:pt x="56" y="328"/>
                    <a:pt x="56" y="384"/>
                  </a:cubicBezTo>
                  <a:cubicBezTo>
                    <a:pt x="56" y="440"/>
                    <a:pt x="0" y="432"/>
                    <a:pt x="8" y="480"/>
                  </a:cubicBezTo>
                  <a:cubicBezTo>
                    <a:pt x="16" y="528"/>
                    <a:pt x="88" y="640"/>
                    <a:pt x="104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 flipV="1">
              <a:off x="5029200" y="1918800"/>
              <a:ext cx="114300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5029200" y="2528640"/>
              <a:ext cx="11430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6172200" y="1919160"/>
              <a:ext cx="88920" cy="1066680"/>
            </a:xfrm>
            <a:custGeom>
              <a:avLst/>
              <a:gdLst/>
              <a:ahLst/>
              <a:rect l="l" t="t" r="r" b="b"/>
              <a:pathLst>
                <a:path w="56" h="672">
                  <a:moveTo>
                    <a:pt x="48" y="0"/>
                  </a:moveTo>
                  <a:cubicBezTo>
                    <a:pt x="52" y="60"/>
                    <a:pt x="56" y="120"/>
                    <a:pt x="48" y="192"/>
                  </a:cubicBezTo>
                  <a:cubicBezTo>
                    <a:pt x="40" y="264"/>
                    <a:pt x="0" y="352"/>
                    <a:pt x="0" y="432"/>
                  </a:cubicBezTo>
                  <a:cubicBezTo>
                    <a:pt x="0" y="512"/>
                    <a:pt x="24" y="592"/>
                    <a:pt x="4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5562360" y="3062160"/>
              <a:ext cx="1447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isplaced phase scre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2" name=""/>
          <p:cNvSpPr/>
          <p:nvPr/>
        </p:nvSpPr>
        <p:spPr>
          <a:xfrm>
            <a:off x="2209680" y="502920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 flipV="1">
            <a:off x="2895480" y="44197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 flipV="1">
            <a:off x="2438280" y="4800600"/>
            <a:ext cx="106704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505320" y="510552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562720" y="502920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 flipV="1">
            <a:off x="6248520" y="44197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6858000" y="51055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91320" y="4788000"/>
            <a:ext cx="1066680" cy="317520"/>
          </a:xfrm>
          <a:custGeom>
            <a:avLst/>
            <a:gdLst/>
            <a:ahLst/>
            <a:rect l="l" t="t" r="r" b="b"/>
            <a:pathLst>
              <a:path w="672" h="200">
                <a:moveTo>
                  <a:pt x="0" y="200"/>
                </a:moveTo>
                <a:cubicBezTo>
                  <a:pt x="48" y="136"/>
                  <a:pt x="96" y="72"/>
                  <a:pt x="144" y="56"/>
                </a:cubicBezTo>
                <a:cubicBezTo>
                  <a:pt x="192" y="40"/>
                  <a:pt x="248" y="112"/>
                  <a:pt x="288" y="104"/>
                </a:cubicBezTo>
                <a:cubicBezTo>
                  <a:pt x="328" y="96"/>
                  <a:pt x="320" y="16"/>
                  <a:pt x="384" y="8"/>
                </a:cubicBezTo>
                <a:cubicBezTo>
                  <a:pt x="448" y="0"/>
                  <a:pt x="560" y="28"/>
                  <a:pt x="672" y="5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2590920" y="41148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h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943600" y="41148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h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berration Correc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514E6-D31E-4A4F-A246-6164DD672351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hase Conjug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mple time delays result in linear phase shift in the frequency domai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placed phase screens result in wavefront distortion, which can be characterized by non-linear phase shift in the frequency domai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berration Corre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AA3D9-9286-432D-89D1-A42EEDEAE409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und Velocity Inhomogenei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1523880" y="1401840"/>
          <a:ext cx="6097680" cy="406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401840"/>
                    <a:ext cx="6097680" cy="406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" name=""/>
          <p:cNvGraphicFramePr/>
          <p:nvPr/>
        </p:nvGraphicFramePr>
        <p:xfrm>
          <a:off x="2286000" y="2514600"/>
          <a:ext cx="4648320" cy="29797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0" y="2514600"/>
                    <a:ext cx="4648320" cy="297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berration Correc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90819-6DDD-480B-B066-AC8F4CF3557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hase Conjug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n-linear phase shift can be corrected by dividing the spectrum into sub-bands and correct for “time delays” individual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the limit when each sub-band is infinitesimally small, it is essentially a phase conjugation techniqu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berration Corre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FB7EB-D746-4BFA-9300-1B5D954B7F0A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ensation Using Parallel Receive Bea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40381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xed direction transmit, all direction receive beam formation can be used to estimate the un-wanted sidelobe contribu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8" name=""/>
          <p:cNvGrpSpPr/>
          <p:nvPr/>
        </p:nvGrpSpPr>
        <p:grpSpPr>
          <a:xfrm>
            <a:off x="3886200" y="2514600"/>
            <a:ext cx="1371600" cy="1371600"/>
            <a:chOff x="3886200" y="2514600"/>
            <a:chExt cx="1371600" cy="1371600"/>
          </a:xfrm>
        </p:grpSpPr>
        <p:sp>
          <p:nvSpPr>
            <p:cNvPr id="439" name=""/>
            <p:cNvSpPr/>
            <p:nvPr/>
          </p:nvSpPr>
          <p:spPr>
            <a:xfrm>
              <a:off x="3886200" y="2514600"/>
              <a:ext cx="1371600" cy="3045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72000" y="2819160"/>
              <a:ext cx="0" cy="1067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 flipV="1">
              <a:off x="3962880" y="3275640"/>
              <a:ext cx="1218240" cy="609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 flipH="1" flipV="1">
              <a:off x="3962520" y="3275640"/>
              <a:ext cx="1218240" cy="609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 flipV="1">
              <a:off x="3962520" y="2818800"/>
              <a:ext cx="60948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 flipH="1" flipV="1">
              <a:off x="4571640" y="2818800"/>
              <a:ext cx="60948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 flipH="1" flipV="1">
              <a:off x="4572000" y="2895480"/>
              <a:ext cx="45720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 flipH="1" flipV="1">
              <a:off x="4571640" y="2971800"/>
              <a:ext cx="22860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 flipV="1">
              <a:off x="4038480" y="2895480"/>
              <a:ext cx="53352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 flipV="1">
              <a:off x="4267080" y="2895480"/>
              <a:ext cx="30492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berration Corre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81055-233A-40B1-A924-C863AFE9B5E2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ensation Using Parallel Receive Bea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85800" y="42670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arallel receive beams are the convolution of transmit insonification with receive beam patter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1" name=""/>
              <p:cNvSpPr txBox="1"/>
              <p:nvPr/>
            </p:nvSpPr>
            <p:spPr>
              <a:xfrm>
                <a:off x="3124080" y="2819520"/>
                <a:ext cx="2895840" cy="11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  <m:r>
                          <m:t xml:space="preserve">∗</m:t>
                        </m:r>
                        <m:r>
                          <m:t xml:space="preserve">b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</m:e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r</m:t>
                            </m:r>
                          </m:e>
                        </m:bar>
                        <m:r>
                          <m:t xml:space="preserve">=</m:t>
                        </m:r>
                        <m:r>
                          <m:t xml:space="preserve">A</m:t>
                        </m:r>
                        <m:bar>
                          <m:barPr>
                            <m:pos m:val="bot"/>
                          </m:barPr>
                          <m:e>
                            <m:r>
                              <m:t xml:space="preserve">b</m:t>
                            </m:r>
                          </m:e>
                        </m:ba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berration Corre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6B7C2-09F1-4CCB-8C18-E98062EA1804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ensation Using Parallel Receive Bea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un-desired sidelobe contributions can be estimated by using de-convolu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th the modeling errors and measurement errors need to be included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TLS (Total-Least-Squares) model is us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berration Corre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17686-6F61-4512-BD57-D6516B6B59DF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ensation Using Parallel Receive Bea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delobe contribution is reduced regardless of the cause of it. In fact, it was originally proposed for other imaging artifac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can be combined with correlation based method as a two-step proces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very computationally demand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berration Corre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FCDFE-8901-4305-8930-A41512A4748D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und Velocity Inhomogenei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und velocity variations result in arrival time erro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imaging systems assume a constant sound velocity. Therefore, sound velocity variations produce beam formation erro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beam formation errors are body type depend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berration Corre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5ADF5-D8C5-4442-B3DB-45C40751EA3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und Velocity Inhomogenei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3962520"/>
            <a:ext cx="77724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ue to beam formation errors, mainlobe may be wider and sidelobes may be high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th spatial and contrast resolution are affect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2057400" y="2133720"/>
            <a:ext cx="1676520" cy="1370160"/>
            <a:chOff x="2057400" y="2133720"/>
            <a:chExt cx="1676520" cy="1370160"/>
          </a:xfrm>
        </p:grpSpPr>
        <p:sp>
          <p:nvSpPr>
            <p:cNvPr id="70" name=""/>
            <p:cNvSpPr/>
            <p:nvPr/>
          </p:nvSpPr>
          <p:spPr>
            <a:xfrm>
              <a:off x="2057400" y="2895480"/>
              <a:ext cx="167652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2819520" y="2133720"/>
              <a:ext cx="0" cy="76176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2" name=""/>
            <p:cNvGrpSpPr/>
            <p:nvPr/>
          </p:nvGrpSpPr>
          <p:grpSpPr>
            <a:xfrm>
              <a:off x="2666880" y="2286000"/>
              <a:ext cx="304560" cy="1217880"/>
              <a:chOff x="2666880" y="2286000"/>
              <a:chExt cx="304560" cy="1217880"/>
            </a:xfrm>
          </p:grpSpPr>
          <p:sp>
            <p:nvSpPr>
              <p:cNvPr id="73" name=""/>
              <p:cNvSpPr/>
              <p:nvPr/>
            </p:nvSpPr>
            <p:spPr>
              <a:xfrm flipH="1">
                <a:off x="2666880" y="2286000"/>
                <a:ext cx="304560" cy="1217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2667600" y="2286000"/>
                <a:ext cx="303840" cy="1217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2209680" y="2746080"/>
              <a:ext cx="228240" cy="297360"/>
              <a:chOff x="2209680" y="2746080"/>
              <a:chExt cx="228240" cy="297360"/>
            </a:xfrm>
          </p:grpSpPr>
          <p:sp>
            <p:nvSpPr>
              <p:cNvPr id="76" name=""/>
              <p:cNvSpPr/>
              <p:nvPr/>
            </p:nvSpPr>
            <p:spPr>
              <a:xfrm flipH="1">
                <a:off x="2209680" y="2746080"/>
                <a:ext cx="228240" cy="297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2210400" y="2746080"/>
                <a:ext cx="227520" cy="297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438280" y="2746080"/>
              <a:ext cx="228240" cy="297360"/>
              <a:chOff x="2438280" y="2746080"/>
              <a:chExt cx="228240" cy="297360"/>
            </a:xfrm>
          </p:grpSpPr>
          <p:sp>
            <p:nvSpPr>
              <p:cNvPr id="79" name=""/>
              <p:cNvSpPr/>
              <p:nvPr/>
            </p:nvSpPr>
            <p:spPr>
              <a:xfrm flipH="1">
                <a:off x="2438280" y="2746080"/>
                <a:ext cx="228240" cy="297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2439000" y="2746080"/>
                <a:ext cx="227520" cy="297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3200400" y="2746080"/>
              <a:ext cx="228240" cy="297360"/>
              <a:chOff x="3200400" y="2746080"/>
              <a:chExt cx="228240" cy="297360"/>
            </a:xfrm>
          </p:grpSpPr>
          <p:sp>
            <p:nvSpPr>
              <p:cNvPr id="82" name=""/>
              <p:cNvSpPr/>
              <p:nvPr/>
            </p:nvSpPr>
            <p:spPr>
              <a:xfrm flipH="1">
                <a:off x="3200400" y="2746080"/>
                <a:ext cx="228240" cy="297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3201120" y="2746080"/>
                <a:ext cx="227520" cy="297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" name=""/>
            <p:cNvGrpSpPr/>
            <p:nvPr/>
          </p:nvGrpSpPr>
          <p:grpSpPr>
            <a:xfrm>
              <a:off x="2971800" y="2746080"/>
              <a:ext cx="228240" cy="297360"/>
              <a:chOff x="2971800" y="2746080"/>
              <a:chExt cx="228240" cy="297360"/>
            </a:xfrm>
          </p:grpSpPr>
          <p:sp>
            <p:nvSpPr>
              <p:cNvPr id="85" name=""/>
              <p:cNvSpPr/>
              <p:nvPr/>
            </p:nvSpPr>
            <p:spPr>
              <a:xfrm flipH="1">
                <a:off x="2971800" y="2746080"/>
                <a:ext cx="228240" cy="297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2972520" y="2746080"/>
                <a:ext cx="227520" cy="297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7" name=""/>
          <p:cNvGrpSpPr/>
          <p:nvPr/>
        </p:nvGrpSpPr>
        <p:grpSpPr>
          <a:xfrm>
            <a:off x="5486400" y="2133720"/>
            <a:ext cx="1295280" cy="761760"/>
            <a:chOff x="5486400" y="2133720"/>
            <a:chExt cx="1295280" cy="761760"/>
          </a:xfrm>
        </p:grpSpPr>
        <p:sp>
          <p:nvSpPr>
            <p:cNvPr id="88" name=""/>
            <p:cNvSpPr/>
            <p:nvPr/>
          </p:nvSpPr>
          <p:spPr>
            <a:xfrm>
              <a:off x="5486400" y="2895480"/>
              <a:ext cx="129528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V="1">
              <a:off x="6172200" y="2133720"/>
              <a:ext cx="0" cy="76176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638680" y="2311200"/>
              <a:ext cx="1143000" cy="583920"/>
            </a:xfrm>
            <a:custGeom>
              <a:avLst/>
              <a:gdLst/>
              <a:ahLst/>
              <a:rect l="l" t="t" r="r" b="b"/>
              <a:pathLst>
                <a:path w="720" h="368">
                  <a:moveTo>
                    <a:pt x="0" y="368"/>
                  </a:moveTo>
                  <a:cubicBezTo>
                    <a:pt x="32" y="280"/>
                    <a:pt x="64" y="192"/>
                    <a:pt x="96" y="176"/>
                  </a:cubicBezTo>
                  <a:cubicBezTo>
                    <a:pt x="128" y="160"/>
                    <a:pt x="160" y="288"/>
                    <a:pt x="192" y="272"/>
                  </a:cubicBezTo>
                  <a:cubicBezTo>
                    <a:pt x="224" y="256"/>
                    <a:pt x="256" y="120"/>
                    <a:pt x="288" y="80"/>
                  </a:cubicBezTo>
                  <a:cubicBezTo>
                    <a:pt x="320" y="40"/>
                    <a:pt x="352" y="0"/>
                    <a:pt x="384" y="32"/>
                  </a:cubicBezTo>
                  <a:cubicBezTo>
                    <a:pt x="416" y="64"/>
                    <a:pt x="440" y="232"/>
                    <a:pt x="480" y="272"/>
                  </a:cubicBezTo>
                  <a:cubicBezTo>
                    <a:pt x="520" y="312"/>
                    <a:pt x="584" y="256"/>
                    <a:pt x="624" y="272"/>
                  </a:cubicBezTo>
                  <a:cubicBezTo>
                    <a:pt x="664" y="288"/>
                    <a:pt x="692" y="328"/>
                    <a:pt x="720" y="36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" name=""/>
          <p:cNvSpPr/>
          <p:nvPr/>
        </p:nvSpPr>
        <p:spPr>
          <a:xfrm>
            <a:off x="2133720" y="312408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err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10080" y="312408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err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berration Corre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343ED-EB1F-4664-BC71-9555E2F9AFF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ar Field Assump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350496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ming the effects of sound velocity inhomogeneities can be modeled as a phase screen at the face of the transducer, beam formation errors can be reduced by correcting the delays between channel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2819520" y="1844640"/>
            <a:ext cx="3886200" cy="1587240"/>
            <a:chOff x="2819520" y="1844640"/>
            <a:chExt cx="3886200" cy="1587240"/>
          </a:xfrm>
        </p:grpSpPr>
        <p:sp>
          <p:nvSpPr>
            <p:cNvPr id="96" name=""/>
            <p:cNvSpPr/>
            <p:nvPr/>
          </p:nvSpPr>
          <p:spPr>
            <a:xfrm>
              <a:off x="4267080" y="2225880"/>
              <a:ext cx="228600" cy="7617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3429360" y="2225520"/>
              <a:ext cx="456480" cy="761760"/>
              <a:chOff x="3429360" y="2225520"/>
              <a:chExt cx="456480" cy="761760"/>
            </a:xfrm>
          </p:grpSpPr>
          <p:sp>
            <p:nvSpPr>
              <p:cNvPr id="98" name=""/>
              <p:cNvSpPr/>
              <p:nvPr/>
            </p:nvSpPr>
            <p:spPr>
              <a:xfrm>
                <a:off x="3429360" y="2225880"/>
                <a:ext cx="456480" cy="761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flipV="1">
                <a:off x="3429360" y="2225160"/>
                <a:ext cx="456480" cy="761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0" name=""/>
            <p:cNvSpPr/>
            <p:nvPr/>
          </p:nvSpPr>
          <p:spPr>
            <a:xfrm flipH="1">
              <a:off x="2819520" y="2225880"/>
              <a:ext cx="83808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819520" y="2606760"/>
              <a:ext cx="83808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025880" y="2225880"/>
              <a:ext cx="241200" cy="761760"/>
            </a:xfrm>
            <a:custGeom>
              <a:avLst/>
              <a:gdLst/>
              <a:ahLst/>
              <a:rect l="l" t="t" r="r" b="b"/>
              <a:pathLst>
                <a:path w="152" h="480">
                  <a:moveTo>
                    <a:pt x="152" y="0"/>
                  </a:moveTo>
                  <a:cubicBezTo>
                    <a:pt x="84" y="68"/>
                    <a:pt x="16" y="136"/>
                    <a:pt x="8" y="192"/>
                  </a:cubicBezTo>
                  <a:cubicBezTo>
                    <a:pt x="0" y="248"/>
                    <a:pt x="96" y="296"/>
                    <a:pt x="104" y="336"/>
                  </a:cubicBezTo>
                  <a:cubicBezTo>
                    <a:pt x="112" y="376"/>
                    <a:pt x="48" y="408"/>
                    <a:pt x="56" y="432"/>
                  </a:cubicBezTo>
                  <a:cubicBezTo>
                    <a:pt x="64" y="456"/>
                    <a:pt x="136" y="472"/>
                    <a:pt x="152" y="48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flipH="1">
              <a:off x="5409360" y="2225880"/>
              <a:ext cx="241560" cy="761760"/>
            </a:xfrm>
            <a:custGeom>
              <a:avLst/>
              <a:gdLst/>
              <a:ahLst/>
              <a:rect l="l" t="t" r="r" b="b"/>
              <a:pathLst>
                <a:path w="152" h="480">
                  <a:moveTo>
                    <a:pt x="152" y="0"/>
                  </a:moveTo>
                  <a:cubicBezTo>
                    <a:pt x="84" y="68"/>
                    <a:pt x="16" y="136"/>
                    <a:pt x="8" y="192"/>
                  </a:cubicBezTo>
                  <a:cubicBezTo>
                    <a:pt x="0" y="248"/>
                    <a:pt x="96" y="296"/>
                    <a:pt x="104" y="336"/>
                  </a:cubicBezTo>
                  <a:cubicBezTo>
                    <a:pt x="112" y="376"/>
                    <a:pt x="48" y="408"/>
                    <a:pt x="56" y="432"/>
                  </a:cubicBezTo>
                  <a:cubicBezTo>
                    <a:pt x="64" y="456"/>
                    <a:pt x="136" y="472"/>
                    <a:pt x="152" y="48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4800600" y="2225520"/>
              <a:ext cx="456480" cy="761760"/>
              <a:chOff x="4800600" y="2225520"/>
              <a:chExt cx="456480" cy="761760"/>
            </a:xfrm>
          </p:grpSpPr>
          <p:sp>
            <p:nvSpPr>
              <p:cNvPr id="105" name=""/>
              <p:cNvSpPr/>
              <p:nvPr/>
            </p:nvSpPr>
            <p:spPr>
              <a:xfrm flipH="1">
                <a:off x="4800600" y="2225880"/>
                <a:ext cx="456480" cy="761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flipH="1" flipV="1">
                <a:off x="4800600" y="2225160"/>
                <a:ext cx="456480" cy="761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4343400" y="1844640"/>
              <a:ext cx="1371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eam form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257800" y="2987640"/>
              <a:ext cx="1066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orrec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895480" y="1920960"/>
              <a:ext cx="14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geometric dela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733920" y="2911680"/>
              <a:ext cx="9144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velocity variation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24480" y="230184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43600" y="1997280"/>
              <a:ext cx="762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lign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berration Corre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33160-E3C4-44E6-AB7D-B83BD02EBC0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rrelation Based Metho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2590920" y="1905120"/>
                <a:ext cx="3886200" cy="79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≡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r>
                      <m:t xml:space="preserve">τ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t xml:space="preserve">τ</m:t>
                    </m:r>
                    <m:r>
                      <m:t xml:space="preserve">)</m:t>
                    </m:r>
                    <m:r>
                      <m:t xml:space="preserve">dτ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3276720" y="2971800"/>
                <a:ext cx="25905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t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sSub>
                          <m:e>
                            <m:r>
                              <m:t xml:space="preserve">Δt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lim>
                    </m:limLow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Δt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6" name=""/>
          <p:cNvSpPr/>
          <p:nvPr/>
        </p:nvSpPr>
        <p:spPr>
          <a:xfrm>
            <a:off x="838080" y="3733920"/>
            <a:ext cx="746784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me delay (phase) errors are found by finding the peak of the cross correlation func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applicable to both point and diffuse targe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berration Correc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79616-5B0C-4410-81D4-67D2ACB48A3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rrelation Based Metho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3429000" y="2133720"/>
                <a:ext cx="220968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T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Δt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19" name=""/>
          <p:cNvSpPr/>
          <p:nvPr/>
        </p:nvSpPr>
        <p:spPr>
          <a:xfrm>
            <a:off x="762120" y="3429000"/>
            <a:ext cx="7619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990720" y="3429000"/>
            <a:ext cx="7010280" cy="30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relative time delays between adjacent channels need to be un-wrapp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timation errors may propaga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berration Correc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80847-AF2E-4E13-A998-47253F07B53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rrelation Based Metho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42670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assumptions for diffuse scatterer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atial white noi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gh correlation (van Cittert-Zernike theorem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981080" y="259092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09680" y="2171880"/>
            <a:ext cx="876600" cy="914400"/>
          </a:xfrm>
          <a:custGeom>
            <a:avLst/>
            <a:gdLst/>
            <a:ahLst/>
            <a:rect l="l" t="t" r="r" b="b"/>
            <a:pathLst>
              <a:path w="552" h="576">
                <a:moveTo>
                  <a:pt x="0" y="264"/>
                </a:moveTo>
                <a:cubicBezTo>
                  <a:pt x="16" y="204"/>
                  <a:pt x="32" y="144"/>
                  <a:pt x="48" y="168"/>
                </a:cubicBezTo>
                <a:cubicBezTo>
                  <a:pt x="64" y="192"/>
                  <a:pt x="80" y="416"/>
                  <a:pt x="96" y="408"/>
                </a:cubicBezTo>
                <a:cubicBezTo>
                  <a:pt x="112" y="400"/>
                  <a:pt x="128" y="136"/>
                  <a:pt x="144" y="120"/>
                </a:cubicBezTo>
                <a:cubicBezTo>
                  <a:pt x="160" y="104"/>
                  <a:pt x="176" y="320"/>
                  <a:pt x="192" y="312"/>
                </a:cubicBezTo>
                <a:cubicBezTo>
                  <a:pt x="208" y="304"/>
                  <a:pt x="232" y="48"/>
                  <a:pt x="240" y="72"/>
                </a:cubicBezTo>
                <a:cubicBezTo>
                  <a:pt x="248" y="96"/>
                  <a:pt x="232" y="432"/>
                  <a:pt x="240" y="456"/>
                </a:cubicBezTo>
                <a:cubicBezTo>
                  <a:pt x="248" y="480"/>
                  <a:pt x="280" y="224"/>
                  <a:pt x="288" y="216"/>
                </a:cubicBezTo>
                <a:cubicBezTo>
                  <a:pt x="296" y="208"/>
                  <a:pt x="280" y="440"/>
                  <a:pt x="288" y="408"/>
                </a:cubicBezTo>
                <a:cubicBezTo>
                  <a:pt x="296" y="376"/>
                  <a:pt x="320" y="0"/>
                  <a:pt x="336" y="24"/>
                </a:cubicBezTo>
                <a:cubicBezTo>
                  <a:pt x="352" y="48"/>
                  <a:pt x="376" y="528"/>
                  <a:pt x="384" y="552"/>
                </a:cubicBezTo>
                <a:cubicBezTo>
                  <a:pt x="392" y="576"/>
                  <a:pt x="384" y="216"/>
                  <a:pt x="384" y="168"/>
                </a:cubicBezTo>
                <a:cubicBezTo>
                  <a:pt x="384" y="120"/>
                  <a:pt x="360" y="256"/>
                  <a:pt x="384" y="264"/>
                </a:cubicBezTo>
                <a:cubicBezTo>
                  <a:pt x="408" y="272"/>
                  <a:pt x="504" y="216"/>
                  <a:pt x="528" y="216"/>
                </a:cubicBezTo>
                <a:cubicBezTo>
                  <a:pt x="552" y="216"/>
                  <a:pt x="540" y="240"/>
                  <a:pt x="528" y="26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429000" y="2362320"/>
            <a:ext cx="9144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l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724280" y="2362320"/>
            <a:ext cx="14479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rel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343400" y="25909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172200" y="259092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200400" y="2590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200400" y="3048120"/>
            <a:ext cx="2133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5334120" y="28191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477120" y="2286000"/>
            <a:ext cx="457200" cy="482760"/>
          </a:xfrm>
          <a:custGeom>
            <a:avLst/>
            <a:gdLst/>
            <a:ahLst/>
            <a:rect l="l" t="t" r="r" b="b"/>
            <a:pathLst>
              <a:path w="288" h="304">
                <a:moveTo>
                  <a:pt x="0" y="192"/>
                </a:moveTo>
                <a:cubicBezTo>
                  <a:pt x="16" y="136"/>
                  <a:pt x="32" y="80"/>
                  <a:pt x="48" y="96"/>
                </a:cubicBezTo>
                <a:cubicBezTo>
                  <a:pt x="64" y="112"/>
                  <a:pt x="80" y="304"/>
                  <a:pt x="96" y="288"/>
                </a:cubicBezTo>
                <a:cubicBezTo>
                  <a:pt x="112" y="272"/>
                  <a:pt x="128" y="0"/>
                  <a:pt x="144" y="0"/>
                </a:cubicBezTo>
                <a:cubicBezTo>
                  <a:pt x="160" y="0"/>
                  <a:pt x="176" y="272"/>
                  <a:pt x="192" y="288"/>
                </a:cubicBezTo>
                <a:cubicBezTo>
                  <a:pt x="208" y="304"/>
                  <a:pt x="224" y="112"/>
                  <a:pt x="240" y="96"/>
                </a:cubicBezTo>
                <a:cubicBezTo>
                  <a:pt x="256" y="80"/>
                  <a:pt x="272" y="136"/>
                  <a:pt x="288" y="19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4038480" y="3276360"/>
            <a:ext cx="990360" cy="609840"/>
            <a:chOff x="4038480" y="3276360"/>
            <a:chExt cx="990360" cy="609840"/>
          </a:xfrm>
        </p:grpSpPr>
        <p:sp>
          <p:nvSpPr>
            <p:cNvPr id="134" name=""/>
            <p:cNvSpPr/>
            <p:nvPr/>
          </p:nvSpPr>
          <p:spPr>
            <a:xfrm>
              <a:off x="4038480" y="3886200"/>
              <a:ext cx="99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V="1">
              <a:off x="4038480" y="327636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038480" y="358128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5105520" y="365760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berration Corre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BD0FA-260B-44F8-B618-B3D19C454F0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10T03:08:48Z</dcterms:created>
  <dc:creator>李百祺老師</dc:creator>
  <dc:description/>
  <dc:language>en-US</dc:language>
  <cp:lastModifiedBy>李百祺老師</cp:lastModifiedBy>
  <cp:lastPrinted>1998-03-12T05:15:06Z</cp:lastPrinted>
  <dcterms:modified xsi:type="dcterms:W3CDTF">1998-03-12T05:22:06Z</dcterms:modified>
  <cp:revision>32</cp:revision>
  <dc:subject/>
  <dc:title>無投影片標題</dc:title>
</cp:coreProperties>
</file>