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A02-4614-4AAC-AF2D-41DC41E9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649-24FA-4E45-AA04-643F8823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52B-C052-4C5D-9514-BAB743F3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E28-47FB-49C6-94C8-80A24DAB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7E4-3724-4341-AC61-7CDCD260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EEB-6332-48D2-A8C1-F587235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49B-1453-4319-9926-FC454002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96D-F67B-48B3-9095-E766CA5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93A-7B4D-4DBA-9ECC-E3266223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835-7A74-45E6-869E-F3D8552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441-060C-4831-BDD9-8DA9943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F23-EEAD-4F3E-9C83-F57B6994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1C1-3B43-41C0-806D-2A63BEF6F37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7925040" cy="5638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inear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DFF-41A6-4E5F-A82B-3F4C1C600C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inear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057400"/>
            <a:ext cx="2590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at distance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3200400"/>
            <a:ext cx="259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ropagation to z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457200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linear propagation at z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438280"/>
            <a:ext cx="2514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spectrum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809880"/>
            <a:ext cx="2438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domain solution to Burgers’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19160" y="4267080"/>
            <a:ext cx="1981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819160" y="2895480"/>
            <a:ext cx="1981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387-D5C6-4A11-AC49-F733706BB6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Harmonic Generation by Contras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response is generated by contrast agents, instead of tissue propag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model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33720" y="4952880"/>
                <a:ext cx="5162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α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65D-5F51-494E-80B8-147641E763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: minimal harmonic sig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ag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harmonic imaging: maximal harmonic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st imaging: minimal harmonic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: maximal fundamental rej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8C7-802C-473C-8967-99EAC54C51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dynamic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ble beam form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cient system bandwi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transducer bandwi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0D2-105C-4162-9CCF-79D29B6C4E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asing pattern across the array can be varied to reduce the signals at a certain frequ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phasing is applicable to both tissue and contrast harmonic ima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phasing on transmit is not id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00A-4DEC-4404-983C-D2354C2C29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phasing for rece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48120" y="3200400"/>
            <a:ext cx="2438280" cy="457200"/>
            <a:chOff x="3048120" y="3200400"/>
            <a:chExt cx="2438280" cy="457200"/>
          </a:xfrm>
        </p:grpSpPr>
        <p:grpSp>
          <p:nvGrpSpPr>
            <p:cNvPr id="101" name=""/>
            <p:cNvGrpSpPr/>
            <p:nvPr/>
          </p:nvGrpSpPr>
          <p:grpSpPr>
            <a:xfrm>
              <a:off x="3048120" y="3201480"/>
              <a:ext cx="488160" cy="456120"/>
              <a:chOff x="3048120" y="3201480"/>
              <a:chExt cx="488160" cy="456120"/>
            </a:xfrm>
          </p:grpSpPr>
          <p:sp>
            <p:nvSpPr>
              <p:cNvPr id="102" name=""/>
              <p:cNvSpPr/>
              <p:nvPr/>
            </p:nvSpPr>
            <p:spPr>
              <a:xfrm>
                <a:off x="3048120" y="32014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91840" y="32014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535560" y="3201480"/>
              <a:ext cx="488160" cy="456120"/>
              <a:chOff x="3535560" y="3201480"/>
              <a:chExt cx="488160" cy="456120"/>
            </a:xfrm>
          </p:grpSpPr>
          <p:sp>
            <p:nvSpPr>
              <p:cNvPr id="105" name=""/>
              <p:cNvSpPr/>
              <p:nvPr/>
            </p:nvSpPr>
            <p:spPr>
              <a:xfrm>
                <a:off x="3535560" y="32014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79280" y="32014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023000" y="3201480"/>
              <a:ext cx="488160" cy="456120"/>
              <a:chOff x="4023000" y="3201480"/>
              <a:chExt cx="488160" cy="456120"/>
            </a:xfrm>
          </p:grpSpPr>
          <p:sp>
            <p:nvSpPr>
              <p:cNvPr id="108" name=""/>
              <p:cNvSpPr/>
              <p:nvPr/>
            </p:nvSpPr>
            <p:spPr>
              <a:xfrm>
                <a:off x="4023000" y="32014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66720" y="32014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10800" y="3201480"/>
              <a:ext cx="488160" cy="456120"/>
              <a:chOff x="4510800" y="3201480"/>
              <a:chExt cx="488160" cy="456120"/>
            </a:xfrm>
          </p:grpSpPr>
          <p:sp>
            <p:nvSpPr>
              <p:cNvPr id="111" name=""/>
              <p:cNvSpPr/>
              <p:nvPr/>
            </p:nvSpPr>
            <p:spPr>
              <a:xfrm>
                <a:off x="4510800" y="32014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54520" y="32014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998240" y="3200400"/>
              <a:ext cx="488160" cy="456120"/>
              <a:chOff x="4998240" y="3200400"/>
              <a:chExt cx="488160" cy="456120"/>
            </a:xfrm>
          </p:grpSpPr>
          <p:sp>
            <p:nvSpPr>
              <p:cNvPr id="114" name=""/>
              <p:cNvSpPr/>
              <p:nvPr/>
            </p:nvSpPr>
            <p:spPr>
              <a:xfrm>
                <a:off x="4998240" y="320040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241960" y="320040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048120" y="3886200"/>
            <a:ext cx="2438280" cy="457200"/>
            <a:chOff x="3048120" y="3886200"/>
            <a:chExt cx="2438280" cy="457200"/>
          </a:xfrm>
        </p:grpSpPr>
        <p:grpSp>
          <p:nvGrpSpPr>
            <p:cNvPr id="117" name=""/>
            <p:cNvGrpSpPr/>
            <p:nvPr/>
          </p:nvGrpSpPr>
          <p:grpSpPr>
            <a:xfrm>
              <a:off x="3048120" y="3887280"/>
              <a:ext cx="488160" cy="456120"/>
              <a:chOff x="3048120" y="3887280"/>
              <a:chExt cx="488160" cy="456120"/>
            </a:xfrm>
          </p:grpSpPr>
          <p:sp>
            <p:nvSpPr>
              <p:cNvPr id="118" name=""/>
              <p:cNvSpPr/>
              <p:nvPr/>
            </p:nvSpPr>
            <p:spPr>
              <a:xfrm>
                <a:off x="3048120" y="38872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91840" y="38872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535560" y="3887280"/>
              <a:ext cx="488160" cy="456120"/>
              <a:chOff x="3535560" y="3887280"/>
              <a:chExt cx="488160" cy="456120"/>
            </a:xfrm>
          </p:grpSpPr>
          <p:sp>
            <p:nvSpPr>
              <p:cNvPr id="121" name=""/>
              <p:cNvSpPr/>
              <p:nvPr/>
            </p:nvSpPr>
            <p:spPr>
              <a:xfrm>
                <a:off x="3535560" y="38872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79280" y="38872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023000" y="3887280"/>
              <a:ext cx="488160" cy="456120"/>
              <a:chOff x="4023000" y="3887280"/>
              <a:chExt cx="488160" cy="456120"/>
            </a:xfrm>
          </p:grpSpPr>
          <p:sp>
            <p:nvSpPr>
              <p:cNvPr id="124" name=""/>
              <p:cNvSpPr/>
              <p:nvPr/>
            </p:nvSpPr>
            <p:spPr>
              <a:xfrm>
                <a:off x="4023000" y="38872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66720" y="38872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510800" y="3887280"/>
              <a:ext cx="488160" cy="456120"/>
              <a:chOff x="4510800" y="3887280"/>
              <a:chExt cx="488160" cy="456120"/>
            </a:xfrm>
          </p:grpSpPr>
          <p:sp>
            <p:nvSpPr>
              <p:cNvPr id="127" name=""/>
              <p:cNvSpPr/>
              <p:nvPr/>
            </p:nvSpPr>
            <p:spPr>
              <a:xfrm>
                <a:off x="4510800" y="38872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54520" y="388728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998240" y="3886200"/>
              <a:ext cx="488160" cy="456120"/>
              <a:chOff x="4998240" y="3886200"/>
              <a:chExt cx="488160" cy="456120"/>
            </a:xfrm>
          </p:grpSpPr>
          <p:sp>
            <p:nvSpPr>
              <p:cNvPr id="130" name=""/>
              <p:cNvSpPr/>
              <p:nvPr/>
            </p:nvSpPr>
            <p:spPr>
              <a:xfrm>
                <a:off x="4998240" y="388620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41960" y="3886200"/>
                <a:ext cx="24444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838080" y="44956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phasing for trans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38280" y="5257800"/>
            <a:ext cx="4419720" cy="457200"/>
            <a:chOff x="2438280" y="5257800"/>
            <a:chExt cx="4419720" cy="457200"/>
          </a:xfrm>
        </p:grpSpPr>
        <p:grpSp>
          <p:nvGrpSpPr>
            <p:cNvPr id="134" name=""/>
            <p:cNvGrpSpPr/>
            <p:nvPr/>
          </p:nvGrpSpPr>
          <p:grpSpPr>
            <a:xfrm>
              <a:off x="2438280" y="5258880"/>
              <a:ext cx="884880" cy="456120"/>
              <a:chOff x="2438280" y="5258880"/>
              <a:chExt cx="884880" cy="456120"/>
            </a:xfrm>
          </p:grpSpPr>
          <p:sp>
            <p:nvSpPr>
              <p:cNvPr id="135" name=""/>
              <p:cNvSpPr/>
              <p:nvPr/>
            </p:nvSpPr>
            <p:spPr>
              <a:xfrm>
                <a:off x="2438280" y="525888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80000" y="525888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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321720" y="5258880"/>
              <a:ext cx="884880" cy="456120"/>
              <a:chOff x="3321720" y="5258880"/>
              <a:chExt cx="884880" cy="45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321720" y="525888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63440" y="525888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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205520" y="5258880"/>
              <a:ext cx="884880" cy="456120"/>
              <a:chOff x="4205520" y="5258880"/>
              <a:chExt cx="884880" cy="456120"/>
            </a:xfrm>
          </p:grpSpPr>
          <p:sp>
            <p:nvSpPr>
              <p:cNvPr id="141" name=""/>
              <p:cNvSpPr/>
              <p:nvPr/>
            </p:nvSpPr>
            <p:spPr>
              <a:xfrm>
                <a:off x="4205520" y="525888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47240" y="525888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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089320" y="5258880"/>
              <a:ext cx="884880" cy="456120"/>
              <a:chOff x="5089320" y="5258880"/>
              <a:chExt cx="884880" cy="456120"/>
            </a:xfrm>
          </p:grpSpPr>
          <p:sp>
            <p:nvSpPr>
              <p:cNvPr id="144" name=""/>
              <p:cNvSpPr/>
              <p:nvPr/>
            </p:nvSpPr>
            <p:spPr>
              <a:xfrm>
                <a:off x="5089320" y="525888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1040" y="525888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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973120" y="5257800"/>
              <a:ext cx="884880" cy="456120"/>
              <a:chOff x="5973120" y="5257800"/>
              <a:chExt cx="884880" cy="456120"/>
            </a:xfrm>
          </p:grpSpPr>
          <p:sp>
            <p:nvSpPr>
              <p:cNvPr id="147" name=""/>
              <p:cNvSpPr/>
              <p:nvPr/>
            </p:nvSpPr>
            <p:spPr>
              <a:xfrm>
                <a:off x="5973120" y="525780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414840" y="5257800"/>
                <a:ext cx="443160" cy="45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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CD6-A565-4844-8CDE-A9F691F19B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 imaging technique: contrast agents can be viewed as a “modulator”. When two different frequencies, say f1 and f2, are used on transmit, the contrast agents generate f1+f2 and f1-f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1 and f2 can be properly chosen to increase the rejection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797-2A16-402B-9334-D9D95E9314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ontrast imaging, in which the tissue harmonic signals are un-desirable, the amplitude of the propagating wave needs to minimized without sacrificing pene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apertures (smaller f-numbers) may be u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reported that tissue harmonic signal can be reduced by 3dB by doubling the apertur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B1C-072A-4448-B56D-FC4294F2E7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ncellation system: non-linear propagation is reduced by using a new signal at the harmonic frequ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and magnitude of the signal may be pre-calculated, but on-line adjustment is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attenuation, optimal effects may only be achieved lo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B58-2953-4618-A05C-195FB8461C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ion mode: Two pulses with different signs are transmitted consecutively. By adding two images together, linear components cancel while second order components re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echnique is susceptible to motion arti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387-6DB4-40F8-ADF3-61358A3848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inear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st situations, acoustic propagation phenomena are considered lin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near phenomena in human tissue are complicated analy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theless, non-linear imaging has emerged as a major diagnostic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CD0-44DA-4380-B583-B2B984D9D2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tion of Imaging Arti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the square nature of tissue harmonic generation, differences between mainlobe and sidelobes are inherently in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esence of aberrations, second harmonic imaging has proven to be effective in reducing the artifa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to current aberration correction techn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9E8-672D-495A-BE95-89C3BD9ECB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tion of Imaging Arti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286000"/>
          <a:ext cx="7751880" cy="29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5188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D4C-907D-4911-A22C-52D69C03F5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tion of Imaging Arti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2362320"/>
          <a:ext cx="7751880" cy="291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775188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920-626E-4494-9FB1-E2FC92962A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inear Imaging: Clinical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ssue characterization: tissue of different types exhibits different non-linear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st imaging: contrast agents are artificially introduced to enhance visualization of low level sig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ssue harmonic imaging: reduce imaging arti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83D-266E-4778-86C9-9E963BACB5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sue Non-linear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action between microstructures acts as “non-linear springs” and therefore results in non-linear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828800" y="3809880"/>
            <a:ext cx="6095880" cy="1447560"/>
            <a:chOff x="1828800" y="3809880"/>
            <a:chExt cx="6095880" cy="1447560"/>
          </a:xfrm>
        </p:grpSpPr>
        <p:sp>
          <p:nvSpPr>
            <p:cNvPr id="51" name=""/>
            <p:cNvSpPr/>
            <p:nvPr/>
          </p:nvSpPr>
          <p:spPr>
            <a:xfrm>
              <a:off x="1905120" y="4648320"/>
              <a:ext cx="22860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4648320"/>
              <a:ext cx="22860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71800" y="4648320"/>
              <a:ext cx="22860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05320" y="4648320"/>
              <a:ext cx="22860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4648320"/>
              <a:ext cx="22860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4764240"/>
              <a:ext cx="2252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4267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380988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ion of sound pres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57800" y="4800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410080" y="41144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4368960"/>
              <a:ext cx="1600200" cy="736560"/>
            </a:xfrm>
            <a:custGeom>
              <a:avLst/>
              <a:gdLst/>
              <a:ahLst/>
              <a:rect l="l" t="t" r="r" b="b"/>
              <a:pathLst>
                <a:path w="1008" h="464">
                  <a:moveTo>
                    <a:pt x="0" y="272"/>
                  </a:moveTo>
                  <a:cubicBezTo>
                    <a:pt x="28" y="136"/>
                    <a:pt x="56" y="0"/>
                    <a:pt x="96" y="32"/>
                  </a:cubicBezTo>
                  <a:cubicBezTo>
                    <a:pt x="136" y="64"/>
                    <a:pt x="192" y="464"/>
                    <a:pt x="240" y="464"/>
                  </a:cubicBezTo>
                  <a:cubicBezTo>
                    <a:pt x="288" y="464"/>
                    <a:pt x="336" y="32"/>
                    <a:pt x="384" y="32"/>
                  </a:cubicBezTo>
                  <a:cubicBezTo>
                    <a:pt x="432" y="32"/>
                    <a:pt x="488" y="464"/>
                    <a:pt x="528" y="464"/>
                  </a:cubicBezTo>
                  <a:cubicBezTo>
                    <a:pt x="568" y="464"/>
                    <a:pt x="584" y="32"/>
                    <a:pt x="624" y="32"/>
                  </a:cubicBezTo>
                  <a:cubicBezTo>
                    <a:pt x="664" y="32"/>
                    <a:pt x="728" y="464"/>
                    <a:pt x="768" y="464"/>
                  </a:cubicBezTo>
                  <a:cubicBezTo>
                    <a:pt x="808" y="464"/>
                    <a:pt x="824" y="32"/>
                    <a:pt x="864" y="32"/>
                  </a:cubicBezTo>
                  <a:cubicBezTo>
                    <a:pt x="904" y="32"/>
                    <a:pt x="956" y="248"/>
                    <a:pt x="1008" y="4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10080" y="45720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10080" y="49528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EF7-9565-4C63-B3A0-76F8C30ED6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sue Non-linear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near response depends on tissue structure and the amplitude of the acoustic w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ond harmonic signal is of particular importance due to its strength and frequ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B3C-51B1-4BF8-BD4D-0F7974E56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inear Parameter B/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447920" y="2209680"/>
                <a:ext cx="63244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¶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¶ρ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P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¶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362320" y="3429000"/>
                <a:ext cx="4343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ρ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219320" y="46483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4648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r the B/A, the higher the non-linear respo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244-BAE4-4472-8A44-EE2C97A368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/A Parameters: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amplitude metho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A is related to the second harmonic generation. Thus, it can be found by relating the signal amplitude at the fundamental frequency to the second harmonic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odynamic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/A value is determined by measuring the change of sound speed with pressure and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9CA-CE05-4882-A76E-E36E8DA4C2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/A Parameters: Typica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:5.5+/-0.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r: 7.2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: 10.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: 7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from both methods have excellent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D1F-F5BC-4793-A666-5DC6880240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inear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quency domain solution to Burgers’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66680" y="3200400"/>
                <a:ext cx="708660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βπ</m:t>
                            </m:r>
                            <m:r>
                              <m:t xml:space="preserve">fΔz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k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nary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n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nary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914400" y="5181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B/(2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-linear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013-019F-4F11-92A5-05E53B9A14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7T07:42:22Z</dcterms:created>
  <dc:creator>李百祺老師</dc:creator>
  <dc:description/>
  <dc:language>en-US</dc:language>
  <cp:lastModifiedBy>李百祺老師</cp:lastModifiedBy>
  <dcterms:modified xsi:type="dcterms:W3CDTF">1998-04-28T07:32:07Z</dcterms:modified>
  <cp:revision>30</cp:revision>
  <dc:subject/>
  <dc:title>無投影片標題</dc:title>
</cp:coreProperties>
</file>