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5BB-C6A2-441D-A8F4-622072D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2EB-B61C-408D-9935-DD5AD355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36F-3544-43F5-B871-9B7BC857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AFF-3263-4A35-8281-915134BB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C1A-8744-4B71-9747-70C7323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390-9DF2-42EC-B825-5ED8231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837-19D2-4C61-ADC4-043C6D4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CA3-7E21-4AE7-9525-F397501A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178-C3F3-44DE-9350-DD691766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40E-B456-45BC-946B-6E46642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47C-470B-459A-875C-CBDFB06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64D-6640-4B5C-B959-B9F2B16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D43-41E3-4000-87AA-39A60E0D41B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7925040" cy="5638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Doppler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946-0B02-4E3F-B630-9D0AA3E587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Flow Estimation Using a Triple Beam L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concept can be implemented by using 2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2D array, beam characteristics can be electronically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1D arrays, two-dimensional flows can be similarly estim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372-FE87-4113-BBF1-B485CCB94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sue and Blood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s from blood with low velocities may be interfered by signals from slow moving tissue (e.g., due to respi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ll filter with a sharp transition band is required. However, such a filter often requires more samples, thus decreasing frame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7BE-2AC2-48FE-A5F9-CE73AB716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sue and Blood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t-off frequency of the wall filter varies from one flow state to another. Therefore, it is desirable to be able to track the flow characteristics automa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00200" y="2209680"/>
            <a:ext cx="5573520" cy="1219320"/>
            <a:chOff x="1600200" y="2209680"/>
            <a:chExt cx="5573520" cy="1219320"/>
          </a:xfrm>
        </p:grpSpPr>
        <p:sp>
          <p:nvSpPr>
            <p:cNvPr id="122" name=""/>
            <p:cNvSpPr/>
            <p:nvPr/>
          </p:nvSpPr>
          <p:spPr>
            <a:xfrm>
              <a:off x="1600200" y="2209680"/>
              <a:ext cx="151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put sig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7800" y="2971800"/>
              <a:ext cx="2195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equency estim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3800" y="2209680"/>
              <a:ext cx="151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ll 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0120" y="2361960"/>
              <a:ext cx="25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13240" y="312408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1324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3800" y="312408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98360" y="2666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233-2BB0-446D-8B1E-80D69D715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sue and Blood Differen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s from tissue in motion appear as “flash” superimposed on top of the B-mod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rther differentiate tissue from blood, the signal levels may be used as a differentia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890-C652-4C7D-B108-992AD60FB9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reshold is often set for noise rejection. In other words, signals below a particular level are considered noise and the estimated values are not display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w threshold results in random noise in th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gh threshold results in drop-o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729-3241-47E5-8EC1-DD33122E1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median filters may be used to remove random noise and drop-ou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histicated spatial or temporal filters may also be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linear filters often have effects to the whol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B71-F2DD-4B73-800D-A6EBF035B0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ower Doppler, system gains need to be applied (similar to B-mode) properly. Un-proper gain settings are ap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lor Doppler with mapping of two variables, details of the mapping function strongly affect flow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D1-0DD2-4249-9BF0-BE5616E3B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R Wall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 filters are easy to design and guaranteed to be s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IIR filters, FIR filters exhibit a wide transition band. Therefore, more samples are needed for the same accura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R filters are of interest to provide narrow transition band with short d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454-FBA8-496A-B082-53CCBACE0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R Wall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IIR filters have a long transient response. Therefore, the first few samples of the filter output need to be discarded and the frame rate advantage becomes less signific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R filters may be properly initialized to reduce the transient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24E-347A-4157-81F8-72B1CA7D18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R Wall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initialization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the particular initialization technique has to be robust under most situations in order to be clinically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26D-9F8B-45F9-9DF5-3BDAC14E37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estimation without direction lim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differentiation between flow signals and non-flow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imaging with a wide dynamic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B0D-EE4A-4559-8627-8760055BB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pectral Estima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 is one of the most popular spectral estimation techniques for Doppler Ultras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ric, or model based methods have been investigated. The performance has not been consistent due to the non-stationary properties of the signals and the accuracy of the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A0C-7A0B-4FDC-A518-CC452B962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Spectral Estima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 based methods, with adjustable window length and window function, are still the most acceptable.  This is partly due to flow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bination of several different methods may have potential to improve the spectrum more consist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431-7877-40BF-9F7A-1E2FEE26C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Parallel 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tra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and correction of flow angle by using the Doppler bandwidth resulting from a finite resolution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flows perpendicular to the image plane using signal de-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dimensional flow imaging using multiple pro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DF1-7A0B-477F-B449-1101C6C84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is limited to signal-to-nois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dem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interval needs to be small enough to avoid speckle de-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EE2-7FAB-439A-8DEC-7E83A9AC5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 Geometry and Doppler Band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a constant velocity flow through the resolution volume, the Doppler bandwidth is proportional to ta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286000"/>
            <a:ext cx="5867280" cy="2166120"/>
            <a:chOff x="1676520" y="2286000"/>
            <a:chExt cx="5867280" cy="2166120"/>
          </a:xfrm>
        </p:grpSpPr>
        <p:sp>
          <p:nvSpPr>
            <p:cNvPr id="53" name=""/>
            <p:cNvSpPr/>
            <p:nvPr/>
          </p:nvSpPr>
          <p:spPr>
            <a:xfrm>
              <a:off x="1676520" y="2286000"/>
              <a:ext cx="609480" cy="1905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0" y="2286000"/>
              <a:ext cx="5257800" cy="609840"/>
            </a:xfrm>
            <a:custGeom>
              <a:avLst/>
              <a:gdLst/>
              <a:ahLst/>
              <a:rect l="l" t="t" r="r" b="b"/>
              <a:pathLst>
                <a:path w="3312" h="384">
                  <a:moveTo>
                    <a:pt x="0" y="0"/>
                  </a:moveTo>
                  <a:cubicBezTo>
                    <a:pt x="444" y="192"/>
                    <a:pt x="888" y="384"/>
                    <a:pt x="1440" y="384"/>
                  </a:cubicBezTo>
                  <a:cubicBezTo>
                    <a:pt x="1992" y="384"/>
                    <a:pt x="2652" y="192"/>
                    <a:pt x="33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286000" y="3580920"/>
              <a:ext cx="5257800" cy="609480"/>
            </a:xfrm>
            <a:custGeom>
              <a:avLst/>
              <a:gdLst/>
              <a:ahLst/>
              <a:rect l="l" t="t" r="r" b="b"/>
              <a:pathLst>
                <a:path w="3312" h="384">
                  <a:moveTo>
                    <a:pt x="0" y="0"/>
                  </a:moveTo>
                  <a:cubicBezTo>
                    <a:pt x="444" y="192"/>
                    <a:pt x="888" y="384"/>
                    <a:pt x="1440" y="384"/>
                  </a:cubicBezTo>
                  <a:cubicBezTo>
                    <a:pt x="1992" y="384"/>
                    <a:pt x="2652" y="192"/>
                    <a:pt x="33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27672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962520" y="2590920"/>
              <a:ext cx="114300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0" y="2286000"/>
              <a:ext cx="1981080" cy="1295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286000" y="2895840"/>
              <a:ext cx="259092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4800" y="41148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low 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9" idx="0"/>
              <a:endCxn id="59" idx="1"/>
            </p:cNvCxnSpPr>
            <p:nvPr/>
          </p:nvCxnSpPr>
          <p:spPr>
            <a:xfrm>
              <a:off x="4874760" y="28954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 flipH="1" flipV="1">
              <a:off x="4114800" y="39621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8006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AB2-91B4-4C85-8174-4D651874C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of Flows Moving Through the Imaging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seen in intravascular ultras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al Doppler cannot image blood flows perpendicular to the imag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971800"/>
            <a:ext cx="12193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200400"/>
            <a:ext cx="533160" cy="380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2666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590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572000" y="2971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9528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36232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w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05520" y="27432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42900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57600" y="3428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E95-9B0A-4423-814C-5B60F2580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of Flows Moving Through the Imaging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velocity can be estimated by assu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te slice thick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fram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is proportional to rate of signal de-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estimate the flow direction and the sensitivity is range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7F0-5847-4097-A89E-55988FF15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of Flows Moving Through the Imaging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de-correlation is estimated by F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information is encoded as in Color Dop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00200" y="2209680"/>
            <a:ext cx="5562720" cy="1815840"/>
            <a:chOff x="1600200" y="2209680"/>
            <a:chExt cx="5562720" cy="1815840"/>
          </a:xfrm>
        </p:grpSpPr>
        <p:sp>
          <p:nvSpPr>
            <p:cNvPr id="82" name=""/>
            <p:cNvSpPr/>
            <p:nvPr/>
          </p:nvSpPr>
          <p:spPr>
            <a:xfrm>
              <a:off x="2286000" y="26668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0" y="28191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0" y="2971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31240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0" y="32763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232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724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180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444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164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92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84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112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43400" y="25142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57400" y="23619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7400" y="23619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2720" y="220968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p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36572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2666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4120" y="35049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044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72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500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64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992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2200" y="2971440"/>
              <a:ext cx="457200" cy="53352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336"/>
                  </a:moveTo>
                  <a:cubicBezTo>
                    <a:pt x="48" y="168"/>
                    <a:pt x="96" y="0"/>
                    <a:pt x="144" y="0"/>
                  </a:cubicBezTo>
                  <a:cubicBezTo>
                    <a:pt x="192" y="0"/>
                    <a:pt x="240" y="168"/>
                    <a:pt x="288" y="3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3FA-27AB-4DBE-9DB9-711382FAE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Flow Estimation Using a Triple Beam L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flow information can be obtained by accurately tracking the blood signals between b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beam geometry must be known and the success strongly depends on the lens constr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off between accuracy and velocity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Doppler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3B8-CB77-488E-BDD4-A42F14A61B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7T08:40:30Z</dcterms:created>
  <dc:creator>李百祺老師</dc:creator>
  <dc:description/>
  <dc:language>en-US</dc:language>
  <cp:lastModifiedBy>李百祺老師</cp:lastModifiedBy>
  <cp:lastPrinted>1998-05-20T09:20:54Z</cp:lastPrinted>
  <dcterms:modified xsi:type="dcterms:W3CDTF">1998-05-20T09:32:34Z</dcterms:modified>
  <cp:revision>33</cp:revision>
  <dc:subject/>
  <dc:title>無投影片標題</dc:title>
</cp:coreProperties>
</file>