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945C-5DA0-4EA1-BE9D-AF25BDBE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5CD-D076-4C4F-BF6F-0F53A726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CB3-A6E3-4116-95EB-5E835622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EBFB-B1BB-4481-85BB-CC1EB896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022-2370-4AB6-A85E-30A2B123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3EA-D011-4B46-A428-227ED99F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900-87C8-46C0-82D6-3FC40089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98C-8B02-41F0-B046-626F4DEC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70DE-545F-4CE9-BC60-2AF062DD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9F7-8EA8-4BEF-899C-A7669BE7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1567-4E99-49E0-895F-7EBC1B19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A02D-153B-4929-B02A-26A8968F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63BB-CE08-4960-8CE3-4AC31C18E4E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380880"/>
            <a:ext cx="8305560" cy="586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Ultrasonic Im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view of Ultrasonic Imag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6D70-A123-4350-891D-E7352BE5DF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e Uniform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uniformity is usually referred to as the variations of the system’s point spread function throughout the entire i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s of image uniformity include depth of field, pulse shapes and variations due to lateral displaceme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chieve image uniformity, a sophisticated imaging system i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view of Ultrasonic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F712-43EC-4151-B950-2C155F4830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si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itivity is defined in the context of the detection of weak sig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itivity is determined by transducer design and system’s dynamic 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itivity is particularly important in Doppler imaging and can be improved by signal process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view of Ultrasonic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B07-D2C3-4B11-9BCF-976A4B0CAD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ne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etration is determined by acoustic power delivered to the body on transmit and the dynamic range of the system on rece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nsmit power is regulated for safety reasons. Hence, penetration must be improved without exceeding regu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view of Ultrasonic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5577-70D8-4851-8F21-8328C320FF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rse Contents: Diagnostic Ultras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ing the fundamental limi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ing the image qu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technolog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u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view of Ultrasonic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6386-2A07-4EE2-8EE1-C28BD43A2C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rse Contents: Other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apeutic ultras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ducer design and manufactu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nical applications - from M.D.’s point of vie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view of Ultrasonic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7D7A-A801-46CC-A228-CB2507A9DA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nical Values of Ultras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ualization of anatomical structures in real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IMAGE13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4064040" cy="321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view of Ultrasonic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9810-FC11-41B9-B072-2301F5E4A8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nical Values of Ultras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ction of blood flows, including direction, velocity distribution, variance and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AGE8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4062240" cy="304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view of Ultrasonic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3CD4-4AA6-4B69-8D2F-91ACA56912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nical Values of Ultras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on of mechanical properties such as strain, elasticity, attenuation, acoustic backscattering, …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 of diseased tissue by hypertherm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 of stones by extracorporeal lithotrip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view of Ultrasonic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0A38-311F-4DC2-84F6-89F45AD40E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acteristics of Ultrasonic Imag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-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ion 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invas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lim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dy type depend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view of Ultrasonic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90F3-E569-4863-932A-B2FC6CEF37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s of Image Q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tial re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st re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oral re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form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itiv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et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view of Ultrasonic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6C93-193F-4973-A913-04D58A6D9D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tial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al and elevational resolutions are diffraction limited as in op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xial resolution is the width of the pulse. It is determined by system/transducer bandwidth and affected by atten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limited total bandwidth, there exists a tradeoff between axial and lateral/elevational resolu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view of Ultrasonic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0353-52AC-429B-A89F-631D881C0C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st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st resolution is determined by both spatial resolution and speckle noise vari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kle comes from coherent interference of diffuse scatterers. In-coherent processing must be used to reduce speckle noi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exists a tradeoff between contrast and spatial resolu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view of Ultrasonic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BAD-8AE1-48DC-BA2D-E06C81022A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poral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oral resolution is determined by acoustic frame rate. It is also related to spatial Nyquist criter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oral resolution is fundamentally limited by sound velocity but can be improved by signal processing in some c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exists a tradeoff between temporal and spatial resolu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view of Ultrasonic Imag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0A50-31F0-4F85-925A-11DB454D92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1T03:23:42Z</dcterms:created>
  <dc:creator>李百祺老師</dc:creator>
  <dc:description/>
  <dc:language>en-US</dc:language>
  <cp:lastModifiedBy>李百祺老師</cp:lastModifiedBy>
  <cp:lastPrinted>1998-02-21T05:44:22Z</cp:lastPrinted>
  <dcterms:modified xsi:type="dcterms:W3CDTF">1998-02-26T03:06:02Z</dcterms:modified>
  <cp:revision>8</cp:revision>
  <dc:subject/>
  <dc:title>Review of Ultrasonic Imaging</dc:title>
</cp:coreProperties>
</file>