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D16-0471-432F-AB98-AB9A9558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466-E2DF-4A02-9766-309F7D4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9B3-5F3F-48A8-9C9D-70C27500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6C8-ED66-4910-8494-79054150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84C-EBC5-47DC-9FD1-D4541BCF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794-D054-4C86-8D11-C47CA490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F48-FB72-49E5-AFC7-3697017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EE1-E45A-4EFB-B27D-5DD067A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635-1B51-4022-BC92-14A21A1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EEF-8846-4654-8464-9018F34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7D4-E148-40B1-8D7D-DE7BD1E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69B-4606-447F-96BE-1E0499C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335E-7C7B-497B-B50B-31A34F5FF07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380880"/>
            <a:ext cx="7925040" cy="586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33A-512F-4506-8A6E-1AE4C2840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and Contras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resolution is improved with finer speckle pattern (i.e., higher spatial resolu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coherent processing must be used to reduce speckle var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-coherence can be introduced in many different ways, but all at the price of spatial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58B-2DF2-4415-A9D5-8F86D598AA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Pattern Cor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f the received signal is determined by both the frequency and the length between the object and the transdu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ffectively reduce speckle, correlation between two measurements of the same object must be underst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535-FAD2-4F78-936B-092985695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La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37800" y="3581280"/>
            <a:ext cx="3916080" cy="2070360"/>
            <a:chOff x="2737800" y="3581280"/>
            <a:chExt cx="3916080" cy="2070360"/>
          </a:xfrm>
        </p:grpSpPr>
        <p:sp>
          <p:nvSpPr>
            <p:cNvPr id="109" name=""/>
            <p:cNvSpPr/>
            <p:nvPr/>
          </p:nvSpPr>
          <p:spPr>
            <a:xfrm flipV="1">
              <a:off x="3446280" y="3897360"/>
              <a:ext cx="0" cy="131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6280" y="5217120"/>
              <a:ext cx="138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6280" y="4214520"/>
              <a:ext cx="974160" cy="10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37800" y="358128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rrelation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0720" y="5033880"/>
              <a:ext cx="179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4920" y="51919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733920" y="2895480"/>
            <a:ext cx="1676160" cy="304920"/>
            <a:chOff x="3733920" y="2895480"/>
            <a:chExt cx="1676160" cy="304920"/>
          </a:xfrm>
        </p:grpSpPr>
        <p:sp>
          <p:nvSpPr>
            <p:cNvPr id="116" name=""/>
            <p:cNvSpPr/>
            <p:nvPr/>
          </p:nvSpPr>
          <p:spPr>
            <a:xfrm>
              <a:off x="3733920" y="2895480"/>
              <a:ext cx="1066680" cy="304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0600" y="289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7080" y="2895480"/>
              <a:ext cx="1143000" cy="304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4267080" y="2133720"/>
            <a:ext cx="30492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133720"/>
            <a:ext cx="228600" cy="761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836-8A66-427E-880A-12D024FFD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La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he target is at focus, the correlation roughly decreases linearly as the lateral displacement increa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relation becomes zero when the displacement is about half the apertur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some variations between different mod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22A-93A5-4BF4-ABA2-D31497214A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La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may decrease in the presence of non-ideal beam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of lateral displacement determines the correlation between images as well as the number of images to be compou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resolution is degra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839-E106-48CB-867B-DB79B7541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La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here are N un-correlated images, the speckle variations are reduced to 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” scheme can be developed by considering both the degradation in spatial resolution and reduction in speckle var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rate may be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A73-10B2-477A-86F8-DAE9BB63C9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Elev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32004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1148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124080" y="3962160"/>
            <a:ext cx="14479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4114800"/>
            <a:ext cx="14479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2600" y="2784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2280" y="38862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imag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CF2-6763-4541-874B-B29C591AA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Elev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two-dimensional array, un-correlated or partially correlated images can be obtained by steering elevation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relation between images is simply determined by the overlap of the elevational beam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mall displacements are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9E5-F175-45F7-B427-D44664893A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Spec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04812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6483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 rot="5400000">
            <a:off x="3732840" y="3581280"/>
            <a:ext cx="167616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3733200" y="3581280"/>
            <a:ext cx="167616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9880" y="3886200"/>
            <a:ext cx="609480" cy="1523880"/>
            <a:chOff x="3809880" y="3886200"/>
            <a:chExt cx="609480" cy="1523880"/>
          </a:xfrm>
        </p:grpSpPr>
        <p:sp>
          <p:nvSpPr>
            <p:cNvPr id="143" name=""/>
            <p:cNvSpPr/>
            <p:nvPr/>
          </p:nvSpPr>
          <p:spPr>
            <a:xfrm>
              <a:off x="3810240" y="3886200"/>
              <a:ext cx="609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09880" y="3886200"/>
              <a:ext cx="609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24280" y="3886200"/>
            <a:ext cx="609480" cy="1523880"/>
            <a:chOff x="4724280" y="3886200"/>
            <a:chExt cx="609480" cy="1523880"/>
          </a:xfrm>
        </p:grpSpPr>
        <p:sp>
          <p:nvSpPr>
            <p:cNvPr id="146" name=""/>
            <p:cNvSpPr/>
            <p:nvPr/>
          </p:nvSpPr>
          <p:spPr>
            <a:xfrm>
              <a:off x="4724640" y="3886200"/>
              <a:ext cx="609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724280" y="3886200"/>
              <a:ext cx="609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67080" y="3809880"/>
            <a:ext cx="609480" cy="1675800"/>
            <a:chOff x="4267080" y="3809880"/>
            <a:chExt cx="609480" cy="1675800"/>
          </a:xfrm>
        </p:grpSpPr>
        <p:sp>
          <p:nvSpPr>
            <p:cNvPr id="149" name=""/>
            <p:cNvSpPr/>
            <p:nvPr/>
          </p:nvSpPr>
          <p:spPr>
            <a:xfrm>
              <a:off x="4267440" y="3809880"/>
              <a:ext cx="60912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267080" y="3809880"/>
              <a:ext cx="60912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233760" y="430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BC4-0AD5-41CD-9BD1-3F61FF7C95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Spec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lateral compounding, the signal spectrum can be divided into several sub-b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relation between sub-bands decreases linearly as the overlap decreases, assuming rectangular sub-b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74E-51CB-47F1-A6AA-EDA874EF54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results from coherent interference of un-resolvabl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6480" y="3733920"/>
            <a:ext cx="2171520" cy="1143000"/>
            <a:chOff x="4686480" y="3733920"/>
            <a:chExt cx="2171520" cy="1143000"/>
          </a:xfrm>
        </p:grpSpPr>
        <p:sp>
          <p:nvSpPr>
            <p:cNvPr id="47" name=""/>
            <p:cNvSpPr/>
            <p:nvPr/>
          </p:nvSpPr>
          <p:spPr>
            <a:xfrm>
              <a:off x="4686480" y="3733920"/>
              <a:ext cx="1143360" cy="102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28840" y="384804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57440" y="396216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28840" y="407664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86040" y="441936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430524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00520" y="396216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28840" y="430524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57440" y="453348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86040" y="419076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028840" y="453348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440" y="4305240"/>
              <a:ext cx="114840" cy="11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4640" y="4533480"/>
              <a:ext cx="114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ple volu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43200" y="3733920"/>
            <a:ext cx="3430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4876920"/>
            <a:ext cx="133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86280" y="4119480"/>
            <a:ext cx="19429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86280" y="4262400"/>
            <a:ext cx="17143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02200" y="3886200"/>
            <a:ext cx="241200" cy="406440"/>
          </a:xfrm>
          <a:custGeom>
            <a:avLst/>
            <a:gdLst/>
            <a:ahLst/>
            <a:rect l="l" t="t" r="r" b="b"/>
            <a:pathLst>
              <a:path w="152" h="256">
                <a:moveTo>
                  <a:pt x="8" y="192"/>
                </a:moveTo>
                <a:cubicBezTo>
                  <a:pt x="4" y="116"/>
                  <a:pt x="0" y="40"/>
                  <a:pt x="8" y="48"/>
                </a:cubicBezTo>
                <a:cubicBezTo>
                  <a:pt x="16" y="56"/>
                  <a:pt x="48" y="248"/>
                  <a:pt x="56" y="240"/>
                </a:cubicBezTo>
                <a:cubicBezTo>
                  <a:pt x="64" y="232"/>
                  <a:pt x="48" y="0"/>
                  <a:pt x="56" y="0"/>
                </a:cubicBezTo>
                <a:cubicBezTo>
                  <a:pt x="64" y="0"/>
                  <a:pt x="96" y="224"/>
                  <a:pt x="104" y="240"/>
                </a:cubicBezTo>
                <a:cubicBezTo>
                  <a:pt x="112" y="256"/>
                  <a:pt x="96" y="112"/>
                  <a:pt x="104" y="96"/>
                </a:cubicBezTo>
                <a:cubicBezTo>
                  <a:pt x="112" y="80"/>
                  <a:pt x="144" y="136"/>
                  <a:pt x="15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4114800"/>
            <a:ext cx="241200" cy="406440"/>
          </a:xfrm>
          <a:custGeom>
            <a:avLst/>
            <a:gdLst/>
            <a:ahLst/>
            <a:rect l="l" t="t" r="r" b="b"/>
            <a:pathLst>
              <a:path w="152" h="256">
                <a:moveTo>
                  <a:pt x="8" y="192"/>
                </a:moveTo>
                <a:cubicBezTo>
                  <a:pt x="4" y="116"/>
                  <a:pt x="0" y="40"/>
                  <a:pt x="8" y="48"/>
                </a:cubicBezTo>
                <a:cubicBezTo>
                  <a:pt x="16" y="56"/>
                  <a:pt x="48" y="248"/>
                  <a:pt x="56" y="240"/>
                </a:cubicBezTo>
                <a:cubicBezTo>
                  <a:pt x="64" y="232"/>
                  <a:pt x="48" y="0"/>
                  <a:pt x="56" y="0"/>
                </a:cubicBezTo>
                <a:cubicBezTo>
                  <a:pt x="64" y="0"/>
                  <a:pt x="96" y="224"/>
                  <a:pt x="104" y="240"/>
                </a:cubicBezTo>
                <a:cubicBezTo>
                  <a:pt x="112" y="256"/>
                  <a:pt x="96" y="112"/>
                  <a:pt x="104" y="96"/>
                </a:cubicBezTo>
                <a:cubicBezTo>
                  <a:pt x="112" y="80"/>
                  <a:pt x="144" y="136"/>
                  <a:pt x="15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52B-19FB-41D8-8982-0FD5E706D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Correlation: Spect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variations are reduced at the price of axial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” scheme can also be developed by considering both spatial and contrast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compounding also results in loss in axial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2B5-39C2-46A0-8870-54A7ED10D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orem originally developed in statistical op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scribes the second-order statistics of the field produced by an in-coherent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sonification of diffuse scatterers is assumed in-coh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ifferent from the aforementioned lateral dis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57B-0447-441E-934F-B5BBB5E4F7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m describes the spatial covariance of signals received at two different points i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point target, the correlation of the two signals should simply be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peckle, correlation decreases since the received signal chan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582-48F1-4403-BADF-71E40537A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m assumes that the target is microscopically un-correl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tial covariance function is the Fourier transform of the radiation pattern at the point of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400-8B51-45B9-85AD-9F51DEB64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64832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909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362320" y="3809880"/>
            <a:ext cx="456840" cy="1676520"/>
            <a:chOff x="2362320" y="3809880"/>
            <a:chExt cx="456840" cy="1676520"/>
          </a:xfrm>
        </p:grpSpPr>
        <p:sp>
          <p:nvSpPr>
            <p:cNvPr id="166" name=""/>
            <p:cNvSpPr/>
            <p:nvPr/>
          </p:nvSpPr>
          <p:spPr>
            <a:xfrm>
              <a:off x="2362680" y="3809880"/>
              <a:ext cx="456480" cy="167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362320" y="3809880"/>
              <a:ext cx="456480" cy="167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819520" y="4419720"/>
            <a:ext cx="227880" cy="456840"/>
            <a:chOff x="2819520" y="4419720"/>
            <a:chExt cx="227880" cy="456840"/>
          </a:xfrm>
        </p:grpSpPr>
        <p:sp>
          <p:nvSpPr>
            <p:cNvPr id="169" name=""/>
            <p:cNvSpPr/>
            <p:nvPr/>
          </p:nvSpPr>
          <p:spPr>
            <a:xfrm>
              <a:off x="281988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81952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33720" y="4419720"/>
            <a:ext cx="227880" cy="456840"/>
            <a:chOff x="2133720" y="4419720"/>
            <a:chExt cx="227880" cy="456840"/>
          </a:xfrm>
        </p:grpSpPr>
        <p:sp>
          <p:nvSpPr>
            <p:cNvPr id="172" name=""/>
            <p:cNvSpPr/>
            <p:nvPr/>
          </p:nvSpPr>
          <p:spPr>
            <a:xfrm>
              <a:off x="213408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13372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048120" y="4419720"/>
            <a:ext cx="227880" cy="456840"/>
            <a:chOff x="3048120" y="4419720"/>
            <a:chExt cx="227880" cy="456840"/>
          </a:xfrm>
        </p:grpSpPr>
        <p:sp>
          <p:nvSpPr>
            <p:cNvPr id="175" name=""/>
            <p:cNvSpPr/>
            <p:nvPr/>
          </p:nvSpPr>
          <p:spPr>
            <a:xfrm>
              <a:off x="304848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4812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05120" y="4419720"/>
            <a:ext cx="227880" cy="456840"/>
            <a:chOff x="1905120" y="4419720"/>
            <a:chExt cx="227880" cy="456840"/>
          </a:xfrm>
        </p:grpSpPr>
        <p:sp>
          <p:nvSpPr>
            <p:cNvPr id="178" name=""/>
            <p:cNvSpPr/>
            <p:nvPr/>
          </p:nvSpPr>
          <p:spPr>
            <a:xfrm>
              <a:off x="190548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905120" y="4419720"/>
              <a:ext cx="227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105520" y="4038480"/>
            <a:ext cx="2438280" cy="609840"/>
            <a:chOff x="5105520" y="4038480"/>
            <a:chExt cx="2438280" cy="609840"/>
          </a:xfrm>
        </p:grpSpPr>
        <p:sp>
          <p:nvSpPr>
            <p:cNvPr id="181" name=""/>
            <p:cNvSpPr/>
            <p:nvPr/>
          </p:nvSpPr>
          <p:spPr>
            <a:xfrm>
              <a:off x="5105520" y="4648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400800" y="4038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410440" y="426672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00800" y="4267080"/>
              <a:ext cx="914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114800" y="4343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96960" y="4800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47242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37D-7A5F-4F2B-B1ED-599AF67FA6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eorem states that the correlation coefficient decreases from 1 to 0 as the distance increases from 0 to full apertur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relation is independent of the frequency, aperture size, …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EEC-47EE-4CC8-9ECA-2CE71E7C95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esence of tissue inhomogeneities, the covariance function is narrower since the radiation pattern is wi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rease in correlation results in lower accuracy in estimation if signals from different channels ar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64A-749B-49F4-A990-84E004E388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Cittert-Zernike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4952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3352680"/>
            <a:ext cx="3200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3352680"/>
            <a:ext cx="1295640" cy="1600200"/>
          </a:xfrm>
          <a:custGeom>
            <a:avLst/>
            <a:gdLst/>
            <a:ahLst/>
            <a:rect l="l" t="t" r="r" b="b"/>
            <a:pathLst>
              <a:path w="816" h="1048">
                <a:moveTo>
                  <a:pt x="0" y="0"/>
                </a:moveTo>
                <a:cubicBezTo>
                  <a:pt x="88" y="68"/>
                  <a:pt x="176" y="136"/>
                  <a:pt x="240" y="240"/>
                </a:cubicBezTo>
                <a:cubicBezTo>
                  <a:pt x="304" y="344"/>
                  <a:pt x="328" y="536"/>
                  <a:pt x="384" y="624"/>
                </a:cubicBezTo>
                <a:cubicBezTo>
                  <a:pt x="440" y="712"/>
                  <a:pt x="512" y="704"/>
                  <a:pt x="576" y="768"/>
                </a:cubicBezTo>
                <a:cubicBezTo>
                  <a:pt x="640" y="832"/>
                  <a:pt x="728" y="968"/>
                  <a:pt x="768" y="1008"/>
                </a:cubicBezTo>
                <a:cubicBezTo>
                  <a:pt x="808" y="1048"/>
                  <a:pt x="808" y="1008"/>
                  <a:pt x="816" y="10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5120" y="49942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97320" y="232740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E52-A12E-4062-89E3-FAA2C4C3DB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of displacement is essential in many imaging areas such as Doppler imaging and elasticity ima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targets, which generally are not as ideal as points targets, must be used in many clinical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3D2-ABB3-49FE-B1D8-B2B7B67E33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previous analysis on speckle analysis, we found the local speckle patterns simply translate assuming the displacement is sm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speckle patterns obtained at two instances are highly correlated and can be used to estimate 2D displac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B4B-3E1E-460B-8931-2A9A472FF4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agnostic ultrasound, the size of tissue  micro-structures is often much smaller than a typical wave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lse-echo ultrasonic images are formed using the phas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appears as brightness variations and obscure the underlying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64E-79CB-4897-847F-9AC6E7483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cements can also be found using phase changes (similar to the conventional Doppler techniqu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ly, displacements in space can be estimated by using the linear phase shifts in the spatial frequency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472-F650-4A9C-809E-8B06AF97F5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ing of the speckle pattern can be used for 2D blood flow imaging. Conventional Doppler imaging can only track axial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using phase information are still inherently limited by the nature of Doppler shif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4B4-6493-44A2-B9C6-F1CE14187F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First-Order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33920" y="1981080"/>
            <a:ext cx="1828800" cy="1258560"/>
            <a:chOff x="3733920" y="1981080"/>
            <a:chExt cx="1828800" cy="1258560"/>
          </a:xfrm>
        </p:grpSpPr>
        <p:grpSp>
          <p:nvGrpSpPr>
            <p:cNvPr id="70" name=""/>
            <p:cNvGrpSpPr/>
            <p:nvPr/>
          </p:nvGrpSpPr>
          <p:grpSpPr>
            <a:xfrm>
              <a:off x="3733920" y="2324160"/>
              <a:ext cx="1600560" cy="915480"/>
              <a:chOff x="3733920" y="2324160"/>
              <a:chExt cx="1600560" cy="915480"/>
            </a:xfrm>
          </p:grpSpPr>
          <p:sp>
            <p:nvSpPr>
              <p:cNvPr id="71" name=""/>
              <p:cNvSpPr/>
              <p:nvPr/>
            </p:nvSpPr>
            <p:spPr>
              <a:xfrm>
                <a:off x="3733920" y="2782080"/>
                <a:ext cx="16005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4533840" y="2324160"/>
                <a:ext cx="360" cy="9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4533840" y="2667240"/>
                <a:ext cx="34344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4648320" y="2667600"/>
                <a:ext cx="22896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648320" y="2552760"/>
                <a:ext cx="360" cy="34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4190760" y="2553120"/>
                <a:ext cx="457560" cy="34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91120" y="2896200"/>
                <a:ext cx="228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4304880" y="2438640"/>
                <a:ext cx="1148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4305240" y="2437560"/>
                <a:ext cx="228960" cy="343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105160" y="2781360"/>
              <a:ext cx="4575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19360" y="1981080"/>
              <a:ext cx="4575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24080" y="3429000"/>
                <a:ext cx="2819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24080" y="4495680"/>
                <a:ext cx="3124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33920" y="5257800"/>
                <a:ext cx="182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15F-75F7-4730-8001-1937D15DD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First-Order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505320" y="228600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429000" y="3200400"/>
                <a:ext cx="2362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76720" y="4343400"/>
                <a:ext cx="32763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πσ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π</m:t>
                                        </m:r>
                                      </m:e>
                                    </m:d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sSup>
                                          <m:e>
                                            <m:r>
                                              <m:t xml:space="preserve">σ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478-1819-4B66-A567-94B9202517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Second-Order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-covariance function of the received phase-sensitive signals (i.e., before envelope detection) is simply the convolution of the system’s point spread function if the insonified reg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scopically slow-va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ally un-corre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B06-3655-4A92-B82A-432771A608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Second-Order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-covariance function of post-detection signals also have similar proper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pe of a speckle spot (assuming fully developed) is simply determined by the shape of the point spread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r the spatial resolution, the finer the speckle pattern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094-4D3C-4F52-AD0F-F9D337E6BE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ove statements do not hold if the object has structures compared to or larger than the ultrasonic wave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distribution is often used for more general scatterer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distribution is a special case of Ricia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531-7948-41FA-99A2-FB1544EED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kle and Contras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kle noise is fundamentally limiting contrast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resolution can be represented by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28800" y="4724280"/>
                <a:ext cx="2743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NR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ΔI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ΔI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5562720" y="4648320"/>
            <a:ext cx="1143000" cy="914400"/>
            <a:chOff x="5562720" y="4648320"/>
            <a:chExt cx="1143000" cy="914400"/>
          </a:xfrm>
        </p:grpSpPr>
        <p:sp>
          <p:nvSpPr>
            <p:cNvPr id="99" name=""/>
            <p:cNvSpPr/>
            <p:nvPr/>
          </p:nvSpPr>
          <p:spPr>
            <a:xfrm>
              <a:off x="5562720" y="4648320"/>
              <a:ext cx="1143000" cy="914400"/>
            </a:xfrm>
            <a:prstGeom prst="rect">
              <a:avLst/>
            </a:prstGeom>
            <a:solidFill>
              <a:srgbClr val="dfd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05440" y="4876920"/>
              <a:ext cx="457200" cy="457200"/>
            </a:xfrm>
            <a:prstGeom prst="ellipse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499140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62640" y="52200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eckle Correlation Analys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491-C541-49E1-BDAA-DD9A7F682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1T04:58:10Z</dcterms:created>
  <dc:creator>李百祺</dc:creator>
  <dc:description/>
  <dc:language>en-US</dc:language>
  <cp:lastModifiedBy>李百祺老師</cp:lastModifiedBy>
  <dcterms:modified xsi:type="dcterms:W3CDTF">1998-03-04T12:05:52Z</dcterms:modified>
  <cp:revision>35</cp:revision>
  <dc:subject/>
  <dc:title>Speckle Correlation Analysis</dc:title>
</cp:coreProperties>
</file>