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A35-808E-4AE7-B3CE-1DAF8548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320-0E46-4922-806D-1444842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2EF-188C-4EB7-896C-0A34C80D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76F-BA2A-427A-AAD1-6C4A0772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313-EF2D-457E-A124-A8363A88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2B9-40C0-4137-892C-A5D721D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BD4-0058-41F3-A604-B2E70F50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1AD-83EE-4C42-B068-2A5673A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B08-4255-4696-8098-1A422BF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8C0-8ED4-414D-9B00-6D421604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20A-87D5-4BD5-8A9C-0ECB560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7D3-3213-4E1D-8DC0-225B38C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F32-7DC8-4B3E-A4D1-C25F10AE15F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7925040" cy="5715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Dimensional Transducer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2A3-1F0F-4A89-9EB6-5074B31D5D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 of Channel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arra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erture in elevation is under-samp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 impedance is re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hannel count is re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elevational ste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3D focusing quality on the 2D image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an-isotropic ar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7ED-B217-49F1-99A1-4AAACCF85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 of 1.5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orm samp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410080" y="1828800"/>
            <a:ext cx="1524240" cy="1219320"/>
            <a:chOff x="5410080" y="1828800"/>
            <a:chExt cx="1524240" cy="1219320"/>
          </a:xfrm>
        </p:grpSpPr>
        <p:sp>
          <p:nvSpPr>
            <p:cNvPr id="95" name=""/>
            <p:cNvSpPr/>
            <p:nvPr/>
          </p:nvSpPr>
          <p:spPr>
            <a:xfrm>
              <a:off x="5410080" y="1828800"/>
              <a:ext cx="152424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0080" y="2438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2743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10080" y="21337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85800" y="30481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nel samp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96080" y="3429000"/>
            <a:ext cx="393840" cy="1295280"/>
            <a:chOff x="7696080" y="3429000"/>
            <a:chExt cx="393840" cy="1295280"/>
          </a:xfrm>
        </p:grpSpPr>
        <p:sp>
          <p:nvSpPr>
            <p:cNvPr id="101" name=""/>
            <p:cNvSpPr/>
            <p:nvPr/>
          </p:nvSpPr>
          <p:spPr>
            <a:xfrm>
              <a:off x="7696080" y="34290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96080" y="3429000"/>
              <a:ext cx="393840" cy="1295280"/>
            </a:xfrm>
            <a:custGeom>
              <a:avLst/>
              <a:gdLst/>
              <a:ahLst/>
              <a:rect l="l" t="t" r="r" b="b"/>
              <a:pathLst>
                <a:path w="248" h="864">
                  <a:moveTo>
                    <a:pt x="248" y="0"/>
                  </a:moveTo>
                  <a:cubicBezTo>
                    <a:pt x="132" y="144"/>
                    <a:pt x="16" y="288"/>
                    <a:pt x="8" y="432"/>
                  </a:cubicBezTo>
                  <a:cubicBezTo>
                    <a:pt x="0" y="576"/>
                    <a:pt x="100" y="720"/>
                    <a:pt x="20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410080" y="3429000"/>
            <a:ext cx="1524240" cy="1219320"/>
            <a:chOff x="5410080" y="3429000"/>
            <a:chExt cx="1524240" cy="1219320"/>
          </a:xfrm>
        </p:grpSpPr>
        <p:sp>
          <p:nvSpPr>
            <p:cNvPr id="104" name=""/>
            <p:cNvSpPr/>
            <p:nvPr/>
          </p:nvSpPr>
          <p:spPr>
            <a:xfrm>
              <a:off x="5410080" y="3429000"/>
              <a:ext cx="152424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4038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10080" y="37339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0080" y="3543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0080" y="43434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10080" y="45291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3808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ic delays are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11F-77CE-4F95-9FBF-D3D012B371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rse Periodic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ite of the periodicity, grating lobes are avoided by placing them at different lo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57400" y="4800600"/>
            <a:ext cx="1828800" cy="380880"/>
            <a:chOff x="2057400" y="4800600"/>
            <a:chExt cx="1828800" cy="380880"/>
          </a:xfrm>
        </p:grpSpPr>
        <p:sp>
          <p:nvSpPr>
            <p:cNvPr id="114" name=""/>
            <p:cNvSpPr/>
            <p:nvPr/>
          </p:nvSpPr>
          <p:spPr>
            <a:xfrm>
              <a:off x="2057400" y="51814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40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767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12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95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34120" y="4800600"/>
            <a:ext cx="1828800" cy="380880"/>
            <a:chOff x="5334120" y="4800600"/>
            <a:chExt cx="1828800" cy="380880"/>
          </a:xfrm>
        </p:grpSpPr>
        <p:sp>
          <p:nvSpPr>
            <p:cNvPr id="124" name=""/>
            <p:cNvSpPr/>
            <p:nvPr/>
          </p:nvSpPr>
          <p:spPr>
            <a:xfrm>
              <a:off x="5334120" y="51814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485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0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28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3FB-980B-419A-80E5-FD4362CE8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rse Periodic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way beam pattern is determined by two-way aperture function, i.e., the convolution of the transmit aperture with the receive aper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arefully choosing the aperture functions, desired response can be synthes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D1A-F642-4EE9-86D7-DEF8EF35C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rse Periodic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valid for CW and in-focus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4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-1 reduction is reaso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noise ratio is aff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this is a synthetic aperture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pproach can be extended to 2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928-C77C-41F1-8143-ED91C2E134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ing Impe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al impedance significantly increases (high resistance and low capacitance) with small transducer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ypical system characteristics, large impedance means poor sensi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dance can be reduced by many methods, including using multiple layer piezoelectric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E35-C44E-4FA1-97DD-7035227630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Layer Cera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oustically in series and electrically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52480" y="3428640"/>
            <a:ext cx="5943600" cy="2288880"/>
            <a:chOff x="1752480" y="3428640"/>
            <a:chExt cx="5943600" cy="2288880"/>
          </a:xfrm>
        </p:grpSpPr>
        <p:grpSp>
          <p:nvGrpSpPr>
            <p:cNvPr id="143" name=""/>
            <p:cNvGrpSpPr/>
            <p:nvPr/>
          </p:nvGrpSpPr>
          <p:grpSpPr>
            <a:xfrm>
              <a:off x="2666880" y="3428640"/>
              <a:ext cx="4038480" cy="1600560"/>
              <a:chOff x="2666880" y="3428640"/>
              <a:chExt cx="4038480" cy="16005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410080" y="3428640"/>
                <a:ext cx="1295280" cy="1600560"/>
                <a:chOff x="5410080" y="3428640"/>
                <a:chExt cx="1295280" cy="16005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410080" y="3429000"/>
                  <a:ext cx="0" cy="1600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10080" y="342900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10080" y="388620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10080" y="434340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10080" y="480060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705360" y="3428640"/>
                  <a:ext cx="0" cy="1593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5638320" y="502272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5638320" y="456552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638320" y="410832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5638320" y="365112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666880" y="350496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66880" y="502920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752480" y="52578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ngle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0" y="52578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ltiple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1E9-967A-458D-8403-3C01BBEA4F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Layer Cera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ransmit, the acoustic output pressure is increased by a factor of N (number of layers) assuming the same drive vol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pressure is also increased by matching the imped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856-1872-4ECF-AF43-C767AF4C5C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Layer Cera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eceive, the received voltage is reduced by a factor of N assuming the same returning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ance is increased by a factor o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ue to the parallel connection and smaller distance between pl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ceive improvement depends on specific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23C-7B3D-4F95-BA74-419084B04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Layer Ceram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KLM and finite element models have been used to predict the performance and compared to measurement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ternative method is to have multiple layers on transmit and signal layer on rece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axial cable capacitance can be reduced by integrating front-end with transduc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F6E-5133-401F-9052-2DEA797F59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: Elevational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arrays have only fixed elevational focusing capabilities. The elevational focusing quality is determined by a mechanical l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arrays must be used in order to have electronic, dynamic 3D foc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3AA-26CB-4409-B943-A45320061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Aberration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s done by various groups have shown the necessity of 2D arrays for phase aberration cor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fig6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D01-AF7C-4091-9C7E-E396DEFE0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ications for Real-Time 3D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complexity associated with increased channel co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beams in a 3D imaging is dramatically increased, thus reducing “frame ra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beam formation is des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CFF-173E-418D-B030-10B63E5770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Large Conform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rther enhance the resolution, very large arrays may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with very large arr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oustic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164-92A9-4710-A8FA-B7072B0000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Large Conform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intain adequate contact, the arrays need to be flex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rregular array geometry results in beamforming errors (similar to near field phase aberr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ortion due to irregular array geometry can be corrected by correlation based correction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823-F9AE-426D-8D58-BFE1465D2D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Large Conform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very large apertures, acoustic obstructions due to air pockets and bone structures may not be avo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ion of the array elements may receive no signals or strong reverb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ed elements also degrade image 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EAF-A396-41C6-9EE9-B91C9919C5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Large Conformal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adation from blocked elements can be reduced by using information contained in beams from different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allel receive compensation method effectively reduces artifacts regardless of the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mpl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BF7-4B46-44BE-B80B-926C3E9491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: Elevational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not apparent, elevational focusing quality determines the “slice thickness” and is critical in image quality (including contrast resolution, noise characteristics and elevational resolu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14600" y="4495680"/>
            <a:ext cx="4495680" cy="1676520"/>
            <a:chOff x="2514600" y="4495680"/>
            <a:chExt cx="4495680" cy="1676520"/>
          </a:xfrm>
        </p:grpSpPr>
        <p:sp>
          <p:nvSpPr>
            <p:cNvPr id="49" name=""/>
            <p:cNvSpPr/>
            <p:nvPr/>
          </p:nvSpPr>
          <p:spPr>
            <a:xfrm>
              <a:off x="2514600" y="5029200"/>
              <a:ext cx="304920" cy="1066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19520" y="5029200"/>
              <a:ext cx="2895480" cy="457200"/>
            </a:xfrm>
            <a:custGeom>
              <a:avLst/>
              <a:gdLst/>
              <a:ahLst/>
              <a:rect l="l" t="t" r="r" b="b"/>
              <a:pathLst>
                <a:path w="1824" h="288">
                  <a:moveTo>
                    <a:pt x="0" y="0"/>
                  </a:moveTo>
                  <a:cubicBezTo>
                    <a:pt x="352" y="144"/>
                    <a:pt x="704" y="288"/>
                    <a:pt x="1008" y="288"/>
                  </a:cubicBezTo>
                  <a:cubicBezTo>
                    <a:pt x="1312" y="288"/>
                    <a:pt x="1568" y="144"/>
                    <a:pt x="18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819520" y="5638680"/>
              <a:ext cx="2895480" cy="457200"/>
            </a:xfrm>
            <a:custGeom>
              <a:avLst/>
              <a:gdLst/>
              <a:ahLst/>
              <a:rect l="l" t="t" r="r" b="b"/>
              <a:pathLst>
                <a:path w="1824" h="288">
                  <a:moveTo>
                    <a:pt x="0" y="0"/>
                  </a:moveTo>
                  <a:cubicBezTo>
                    <a:pt x="352" y="144"/>
                    <a:pt x="704" y="288"/>
                    <a:pt x="1008" y="288"/>
                  </a:cubicBezTo>
                  <a:cubicBezTo>
                    <a:pt x="1312" y="288"/>
                    <a:pt x="1568" y="144"/>
                    <a:pt x="18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769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876920" y="57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52880" y="4495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ice thick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149-F8AF-41EE-9167-EB68B1B0AE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: Aberration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ed correlation lengths of phase and energy level fluctuations from abdominal measurements are around 5mm and 3mm respective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362320" y="4800600"/>
            <a:ext cx="4343400" cy="457200"/>
            <a:chOff x="2362320" y="4800600"/>
            <a:chExt cx="4343400" cy="457200"/>
          </a:xfrm>
        </p:grpSpPr>
        <p:sp>
          <p:nvSpPr>
            <p:cNvPr id="58" name=""/>
            <p:cNvSpPr/>
            <p:nvPr/>
          </p:nvSpPr>
          <p:spPr>
            <a:xfrm>
              <a:off x="2362320" y="4800600"/>
              <a:ext cx="152388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81480" y="4800600"/>
              <a:ext cx="152424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180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40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900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9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86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13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8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85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5308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E00-3253-42C4-B891-6FF5AF5A27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: Aberration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averaging effects will occur if the elevational size is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s have shown that 1D correction alone does not necessarily improve the image 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arrays are necessary for adequate aperture samp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EBF-7B5F-4AC4-AEF2-76A80E596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s: Real-Time 3D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3D imaging (including flow imaging)  is done by reconstruction using a set of 2D images. This is not real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sampled (i.e., spatial Nyquist criterion is satisfied in both directions) arrays must be used to allow full 3D focusing and steering cap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D65-8F0D-47ED-A72A-19826F73C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fully sampled aperture with a typical size, the total channel count may exceed 10,000 - almost impossible for current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element size decreases, electrical impedance significantly increases, thus resulting in poor signal to nois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E03-50FF-4513-B275-7BCF85129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-connection from each channel to the front-end electronics becomes complicated with 2D arr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114800"/>
            <a:ext cx="1905120" cy="1219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114800"/>
            <a:ext cx="1904760" cy="121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069-01E0-4465-8DC6-6B2CE75BD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 of Channel 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e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ndom selection of elements are removed from the periodic dense array. Only a fraction of the original elements rem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lobe is un-affected. Grating lobes are avoided. Sidelobes are hig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 impedance is un-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manufa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wo-Dimensional Transducer Arra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8CE-CBAE-4C7D-B071-2564DFF09C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02:58:32Z</dcterms:created>
  <dc:creator>李百祺老師</dc:creator>
  <dc:description/>
  <dc:language>en-US</dc:language>
  <cp:lastModifiedBy>李百祺老師</cp:lastModifiedBy>
  <dcterms:modified xsi:type="dcterms:W3CDTF">1998-04-15T10:37:06Z</dcterms:modified>
  <cp:revision>40</cp:revision>
  <dc:subject/>
  <dc:title>無投影片標題</dc:title>
</cp:coreProperties>
</file>